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57F-B8C2-485A-B7B5-CFBE42B8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D39-8A8F-40F5-ABCB-0D83145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759-3488-45E7-8425-81518323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464-A8E3-4030-BAFB-A99494B9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C63-AE68-4A08-8846-1A126BD0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13E-52A5-4D1E-A027-099B2C7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345-0A90-4A4C-962B-D7F6932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17-05FC-402F-AB6F-25573994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0E0-EC8A-4302-B61B-94E1F59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488-AF83-43FF-A781-A8F17EA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AF8-BBE3-41A3-AABD-57281DA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A57-140F-4093-8B17-20741A1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181367-B260-49BB-AFAA-338D25BB7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539640"/>
            <a:ext cx="8140680" cy="5778720"/>
          </a:xfrm>
          <a:prstGeom prst="roundRect">
            <a:avLst>
              <a:gd name="adj" fmla="val 2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gi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362320"/>
            <a:ext cx="76201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r ability to state invariants, record preconditions and post-conditions, and the ability to reason about a formal model depend on the logic on which the  modelling language is b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cal logical propositions and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n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ndling undefinedness: the logic of partia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AB-7F00-4AE7-90CD-D26548C7A0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jun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219320"/>
            <a:ext cx="784836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junction allows us to express alternatives that are not necessarily exclus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Over limit: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ere is a reading in the sample in excess of 400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verLimit: Monito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verLimit(m) =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86400" y="4191120"/>
            <a:ext cx="3048120" cy="2035800"/>
            <a:chOff x="5486400" y="4191120"/>
            <a:chExt cx="3048120" cy="2035800"/>
          </a:xfrm>
        </p:grpSpPr>
        <p:sp>
          <p:nvSpPr>
            <p:cNvPr id="126" name=""/>
            <p:cNvSpPr/>
            <p:nvPr/>
          </p:nvSpPr>
          <p:spPr>
            <a:xfrm>
              <a:off x="5562720" y="4191120"/>
              <a:ext cx="99036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4191120"/>
              <a:ext cx="99036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4191120"/>
              <a:ext cx="11430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r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2880" y="4197240"/>
              <a:ext cx="303516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6400" y="45720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41911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41911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E86-E369-413A-A1AA-654D3170B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66680"/>
            <a:ext cx="76960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ction allows us to express the fact that all of a collection of facts are tr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ntinually over limit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all the readings in the sample exceed 400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133720"/>
            <a:ext cx="617220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verLimit: Monito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verLimit(m) == m.temps(1) &gt; 40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2) &gt; 400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3) &gt; 40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4) &gt; 40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.temps(5) &gt;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562720" y="4191120"/>
            <a:ext cx="3047760" cy="2035800"/>
            <a:chOff x="5562720" y="4191120"/>
            <a:chExt cx="3047760" cy="2035800"/>
          </a:xfrm>
        </p:grpSpPr>
        <p:sp>
          <p:nvSpPr>
            <p:cNvPr id="137" name=""/>
            <p:cNvSpPr/>
            <p:nvPr/>
          </p:nvSpPr>
          <p:spPr>
            <a:xfrm>
              <a:off x="5637240" y="4191120"/>
              <a:ext cx="9666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29320" y="4191120"/>
              <a:ext cx="96696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46880" y="4191120"/>
              <a:ext cx="12636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d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8840" y="4197240"/>
              <a:ext cx="2960640" cy="196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4572000"/>
              <a:ext cx="297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29320" y="4191120"/>
              <a:ext cx="0" cy="19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21400" y="4191120"/>
              <a:ext cx="0" cy="19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7FE-B013-48C2-A806-48F3768876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ic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143000"/>
            <a:ext cx="76960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ication allows us to express facts which are only true under certain conditions (“if … then …”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afe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readings do not exceed 400 C by the middle of the sample, the reactor is safe. If readings exceed 400 C by the middle of the sample, the reactor is still safe provided that the reading at the end of the sample is less than 400 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971800"/>
            <a:ext cx="617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fe: Monito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fe(m)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10080" y="4267080"/>
            <a:ext cx="3124440" cy="2035800"/>
            <a:chOff x="5410080" y="4267080"/>
            <a:chExt cx="3124440" cy="2035800"/>
          </a:xfrm>
        </p:grpSpPr>
        <p:sp>
          <p:nvSpPr>
            <p:cNvPr id="148" name=""/>
            <p:cNvSpPr/>
            <p:nvPr/>
          </p:nvSpPr>
          <p:spPr>
            <a:xfrm>
              <a:off x="5486400" y="4267080"/>
              <a:ext cx="9907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0800" y="4267080"/>
              <a:ext cx="9907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8880" y="4267080"/>
              <a:ext cx="129564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&gt;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16560" y="4273560"/>
              <a:ext cx="303516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64832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4267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4267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EDD-7F4B-4C3C-982F-6341FB6C0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iimplic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066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143000"/>
            <a:ext cx="7772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iimplication allows us to express equivalence (“if and only if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larm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alarm is to be raised if and only if the reactor is not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36232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can be recorded as an invariant proper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819520"/>
            <a:ext cx="58910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 :: temps : seq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arm :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 == len m.temps = 5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562720" y="4267080"/>
            <a:ext cx="3124080" cy="2035800"/>
            <a:chOff x="5562720" y="4267080"/>
            <a:chExt cx="3124080" cy="2035800"/>
          </a:xfrm>
        </p:grpSpPr>
        <p:sp>
          <p:nvSpPr>
            <p:cNvPr id="161" name=""/>
            <p:cNvSpPr/>
            <p:nvPr/>
          </p:nvSpPr>
          <p:spPr>
            <a:xfrm>
              <a:off x="5638680" y="4267080"/>
              <a:ext cx="9907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3080" y="4267080"/>
              <a:ext cx="9907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4267080"/>
              <a:ext cx="129528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=&gt;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8840" y="4273560"/>
              <a:ext cx="303552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46483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4267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67480" y="4267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DF4-C637-42AF-B929-5EF859FB1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fi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066680"/>
            <a:ext cx="77724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r large collections of values, using a variable makes more sense than dealing with each case separate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d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.temps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presents indices (1-5) of the sam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“over limit” condition can then be expressed more economically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 se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inds m.temp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temps(i) &gt;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343400"/>
            <a:ext cx="76960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“continually over limit” condition can then be expressed using “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777-B421-45F3-94D9-7D86C610B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fi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143000"/>
            <a:ext cx="784836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rall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inding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ists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binding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90920"/>
            <a:ext cx="4952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re are two types of bin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ype Bin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e.g.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: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: seq of 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 Bin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e.g.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 in set inds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 in set {1,…,2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048120"/>
            <a:ext cx="2895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 type binding lets the bound variable range over a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(a possibly infinite collection of valu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2895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 set binding lets the bound variable range over a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inite set of values.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CDD-F2CA-4E24-8A88-732BFEB3B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fi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143000"/>
            <a:ext cx="76960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veral variables may be bound at once by a single quantifier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all x,y in set {1,…,5}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t m.temp(x) = m.temp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048120"/>
            <a:ext cx="784836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uld this predicate be true for the following value of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.te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320, 220, 105, 119, 15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D41-ABDD-47E3-8FED-73B18227A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fier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rcis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295280"/>
            <a:ext cx="83055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l the readings in the sample are less than 400 and greater than 5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ach reading in the sample is up to 10 greater than its predecess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here are two distinct readings in the sample which are over 4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582-22F0-493A-964B-70191D374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fier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43000"/>
            <a:ext cx="7848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se we have to formalise the following proper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re is a “single minimum” in the sequence of readings, i.e. there is a reading which is strictly smaller than any of the other read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733920"/>
            <a:ext cx="723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the order of the quantifiers is rever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71-681D-421A-A7CE-09BEC295C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219320"/>
            <a:ext cx="76960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edicates involve free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edicates may be combined using conn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ee variables can range over collections of values, using quant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antifiers can be m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C02-4BB9-4CC8-8126-3C0995EF4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temperature monitor examp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666880" y="1371600"/>
            <a:ext cx="4038840" cy="1676520"/>
            <a:chOff x="2666880" y="1371600"/>
            <a:chExt cx="4038840" cy="1676520"/>
          </a:xfrm>
        </p:grpSpPr>
        <p:sp>
          <p:nvSpPr>
            <p:cNvPr id="46" name=""/>
            <p:cNvSpPr/>
            <p:nvPr/>
          </p:nvSpPr>
          <p:spPr>
            <a:xfrm>
              <a:off x="2666880" y="13716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3048120"/>
              <a:ext cx="403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048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286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05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676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13372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514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89548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2004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2004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2004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2004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2004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590560" y="3046320"/>
            <a:ext cx="152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66880" y="2133720"/>
            <a:ext cx="3812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429000" y="1904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051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133720"/>
            <a:ext cx="3808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4120" y="26665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371600"/>
            <a:ext cx="228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mperature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3200400"/>
            <a:ext cx="21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ime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038480"/>
            <a:ext cx="3429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he monitor records the last five temperature rea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8480" y="4038480"/>
            <a:ext cx="3795480" cy="534600"/>
            <a:chOff x="4578480" y="4038480"/>
            <a:chExt cx="3795480" cy="534600"/>
          </a:xfrm>
        </p:grpSpPr>
        <p:sp>
          <p:nvSpPr>
            <p:cNvPr id="86" name=""/>
            <p:cNvSpPr/>
            <p:nvPr/>
          </p:nvSpPr>
          <p:spPr>
            <a:xfrm>
              <a:off x="4578480" y="4044960"/>
              <a:ext cx="3795480" cy="52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588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012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41148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Palatino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96080" y="41148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Palatino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34320" y="41148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Palatin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41148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Palatin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41148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Palatino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B4D-BA06-477D-8D9A-542B45C0E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PF: coping with undefinedn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219320"/>
            <a:ext cx="76960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sensors can fail in such a way that they generate the valu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stead of a valid tempera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is case we can not make comparisons li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lt; 400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ogic in VDM is equipped with facilities for handling undefined applications of operators (e.g. if division by zero could occu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uth tables are extended to deal with the possibility that undefined values can occur, e.g.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267080"/>
            <a:ext cx="9907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267080"/>
            <a:ext cx="9907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21080" y="4197240"/>
            <a:ext cx="2577960" cy="189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91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648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572000" y="4952520"/>
            <a:ext cx="121932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4572000"/>
            <a:ext cx="25146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epresents the undefin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A6B-EA81-49D7-AB5D-685F56AEDE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junction in LP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8080" y="1219320"/>
            <a:ext cx="3048120" cy="4122000"/>
            <a:chOff x="838080" y="1219320"/>
            <a:chExt cx="3048120" cy="4122000"/>
          </a:xfrm>
        </p:grpSpPr>
        <p:sp>
          <p:nvSpPr>
            <p:cNvPr id="197" name=""/>
            <p:cNvSpPr/>
            <p:nvPr/>
          </p:nvSpPr>
          <p:spPr>
            <a:xfrm>
              <a:off x="9144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88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1219320"/>
              <a:ext cx="114300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r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4560" y="1225440"/>
              <a:ext cx="3035160" cy="410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16002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32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48320" y="1600200"/>
            <a:ext cx="3733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f one disjunct is true, we know that the whole disjunction is true, regardless of whether the other disjunct is true, false or undefined.</a:t>
            </a:r>
            <a:r>
              <a:rPr b="0" i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5EC-56E5-4A29-B560-B4ABCDB2A1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junction in LP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8080" y="1219320"/>
            <a:ext cx="3124440" cy="4122000"/>
            <a:chOff x="838080" y="1219320"/>
            <a:chExt cx="3124440" cy="4122000"/>
          </a:xfrm>
        </p:grpSpPr>
        <p:sp>
          <p:nvSpPr>
            <p:cNvPr id="207" name=""/>
            <p:cNvSpPr/>
            <p:nvPr/>
          </p:nvSpPr>
          <p:spPr>
            <a:xfrm>
              <a:off x="9144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6880" y="1219320"/>
              <a:ext cx="129564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d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4560" y="1225440"/>
              <a:ext cx="3035160" cy="410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6002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8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32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648320" y="1600200"/>
            <a:ext cx="3733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f one conjunct is false, we know that the whole conjunction is false, regardless of whether the other disjunct is true, false or undefin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CB5-A9E5-4FAC-B496-56B0904DF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lication and Biimplication in LP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38080" y="1219320"/>
            <a:ext cx="3124440" cy="4122000"/>
            <a:chOff x="838080" y="1219320"/>
            <a:chExt cx="3124440" cy="4122000"/>
          </a:xfrm>
        </p:grpSpPr>
        <p:sp>
          <p:nvSpPr>
            <p:cNvPr id="217" name=""/>
            <p:cNvSpPr/>
            <p:nvPr/>
          </p:nvSpPr>
          <p:spPr>
            <a:xfrm>
              <a:off x="9144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1219320"/>
              <a:ext cx="99072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6880" y="1219320"/>
              <a:ext cx="1295640" cy="41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&gt;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4560" y="1225440"/>
              <a:ext cx="3035160" cy="410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16002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12193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876920" y="1219320"/>
            <a:ext cx="99036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1219320"/>
            <a:ext cx="99036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1219320"/>
            <a:ext cx="129528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7080" y="1225440"/>
            <a:ext cx="3035160" cy="410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16002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1219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1219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4D5-21B8-47C5-8782-14572CD8A3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temperature monitor examp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143000"/>
            <a:ext cx="8001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conditions are to be detected by the moni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sing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he last reading in the sample is greater than the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ver limit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is a reading in the sample in excess of 400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inually over limit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the readings in the sample exceed 400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af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f readings do not exceed 400 C by the middle of the sample, the reactor is safe. If readings exceed 400 C by the middle of the sample, the reactor is still safe provided that the reading at the end of the sample is less than 400 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arm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he alarm is to be raised if and only if the reactor is not 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mal Model of the moni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4A8-6B86-4C38-AC01-C9706F9E1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osition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066680"/>
            <a:ext cx="769608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ates are simply logical expressions. The simplest kind of logical predicate is a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po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oposition is a logical assertion about a particular value or values, usually involving a Boolean operator to compare the values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&lt; 2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=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ositions are normally either true or false (but in VDM we also have to handle undefined values - see the later notes on the Logic of Partial Fun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ositions have very limited val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85D-2579-4098-BF72-CE0F6E885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 predicat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295280"/>
            <a:ext cx="769608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predicate is a logical expression that is not specific to particular values but contains variables which can stand for one of a range of possible values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 &lt;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x**2) + x - 6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ruth or falsehood of a predicate depends on the value taken by the variables.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0C5-A815-45BA-AC74-63EF5C494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ates in the monitor examp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371600"/>
            <a:ext cx="44960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 :: temps : seq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arm :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 == len m.temps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590920"/>
            <a:ext cx="76201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 a moni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equence so we can index into 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 reading in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t reading in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ate stating that the first reading in m is strictly less than the last read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ruth of the predicate depends on the value of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AD2-5506-4638-8705-12061D0AE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rising condi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0666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last reading in the sample is greater than th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1676520"/>
            <a:ext cx="44956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 :: temps : seq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larm :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v m == len m.temps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895480"/>
            <a:ext cx="762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press the rising condition as a Boolean fun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505320"/>
            <a:ext cx="662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: Monito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m) == m.temps(1) &lt; m.temps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419720"/>
            <a:ext cx="7467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or any monitor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expressio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ising(m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evaluates to true iff the last reading in the sample in m is higher than the first, e.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257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ising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mk_Monitor([233,45,677,650,900], false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7C8-8CA7-4554-9CCF-E35782980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295280"/>
            <a:ext cx="769608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build more complex logical expressions out of simple ones using logical connectiv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lication (if … the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lt;=&gt;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iimplication (if and only 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24F-809D-4668-B3B9-44938C9F5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logical opera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219320"/>
            <a:ext cx="7619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ation allows us to state that the opposite of some logical expression is true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The temperature in the monito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n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 is not ri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ot Rising(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67280" y="4343400"/>
            <a:ext cx="2590920" cy="1600200"/>
            <a:chOff x="5867280" y="4343400"/>
            <a:chExt cx="2590920" cy="1600200"/>
          </a:xfrm>
        </p:grpSpPr>
        <p:sp>
          <p:nvSpPr>
            <p:cNvPr id="117" name=""/>
            <p:cNvSpPr/>
            <p:nvPr/>
          </p:nvSpPr>
          <p:spPr>
            <a:xfrm>
              <a:off x="6019920" y="4419720"/>
              <a:ext cx="990360" cy="13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8880" y="4419720"/>
              <a:ext cx="990720" cy="13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not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3760" y="4349880"/>
              <a:ext cx="2577960" cy="158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920" y="434340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48006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819520" y="441972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th table for ne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C9F-0E27-47C0-853F-4D718348C2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6:08:24Z</dcterms:created>
  <dc:creator>Centre for Software Reliability</dc:creator>
  <dc:description/>
  <dc:language>en-US</dc:language>
  <cp:lastModifiedBy>Centre for Software Reliability</cp:lastModifiedBy>
  <dcterms:modified xsi:type="dcterms:W3CDTF">1999-10-11T14:56:56Z</dcterms:modified>
  <cp:revision>51</cp:revision>
  <dc:subject/>
  <dc:title>Logic</dc:title>
</cp:coreProperties>
</file>