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7E4-043E-4664-891A-E501EA6B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93A-B592-4B10-8DC4-35E8130C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643-67FF-4BE6-98D9-4B71CD4A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F42-20BE-4714-8AF9-65365E49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339-6D1D-424D-8AAB-20D657C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DB3-2220-4658-B085-B84D00A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974-12F0-4CC3-A14C-21C060EA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0C5-8C65-4D70-A946-FA0AE73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B18-A2CA-4683-9105-95CF26F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1D9-D7C3-4E92-B46F-0DAD7D7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A40-069A-4671-B0BC-21FAC25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B40-E773-4A59-AC5D-26440A3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1455BF-7504-4D4A-B3EC-6E2B04FF8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3680" y="387360"/>
            <a:ext cx="8216640" cy="585468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ling using se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05120"/>
            <a:ext cx="800100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inite set type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lue definitions: enumeration, subrange, compreh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se Study: the explosives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191120"/>
            <a:ext cx="57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o define a typ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 type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ways of writing down val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ways of operating o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34F-367B-4EB9-BC4E-E0FF0EF943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914400"/>
            <a:ext cx="777240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plenty of built-in operators on se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ha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igna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fining the number and types of operand expected, e.g. the set union opera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 union _ : set of A * set of A -&gt; set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3520" y="2362320"/>
            <a:ext cx="6248160" cy="1995120"/>
            <a:chOff x="533520" y="2362320"/>
            <a:chExt cx="6248160" cy="1995120"/>
          </a:xfrm>
        </p:grpSpPr>
        <p:sp>
          <p:nvSpPr>
            <p:cNvPr id="72" name=""/>
            <p:cNvSpPr/>
            <p:nvPr/>
          </p:nvSpPr>
          <p:spPr>
            <a:xfrm>
              <a:off x="1523880" y="2362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3048120"/>
              <a:ext cx="25905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me of the operator. The underscores show where the arguments go when the operator is us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243828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343400" y="243828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3048120"/>
              <a:ext cx="198108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ypes of the inputs, in order. The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” separates each input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2438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72200" y="3124080"/>
            <a:ext cx="228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ype of the resul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4956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can you tell about the union operator from this signa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A2C-234A-4236-803A-6AA8EE6631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914400"/>
            <a:ext cx="761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 union _ : set of A * set of A -&gt; set of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the following expressions legal, according to the signa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77724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nion({4, 7, 9} {23, 6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3 union {7, 1, 1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12,…,15} union {x-y | x,y:nat &amp; x&lt;4 and y&lt;1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} union 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12} union {x**y | x,y:nat &amp; x&lt;4 and y&gt;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CDA-DB5C-4666-84E7-E8EF6D2BA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966960"/>
            <a:ext cx="7483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order to use operators effectively, you have to know the number and types of operands that they expect, and the types of value that they return as a resu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formation is given in the notes and the text, an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ou really need to know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order to use the language effective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642-92AB-4E45-A998-F0A29F54C1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066680"/>
            <a:ext cx="75438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 union _  : set of A * set of A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 inter _  : set of A * set of A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 \ _      : set of A * set of A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union     : set of (set of A)  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inter     : set of (set of A)  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rd       : set of A            -&gt; 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 in set _ : A * set of A       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_ subset _ : set of A * set of A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724280"/>
            <a:ext cx="3581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e don’t show the underscores when the operator is normally used in a prefix form, e.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 {12, 45, 12, 3}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C7D-B68A-4868-96F5-F269287D9C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ed operato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066680"/>
            <a:ext cx="769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ost common operators have special forms in which they are extended to a whole set of arguments, not just tw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810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union    : set of (set of A)  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373392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inter    : set of (set of A)   -&gt; set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C76-A176-4A08-BB02-CF2EB7C13C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ors on Set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ng elemen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792504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side a function definition, we may need to select a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bitrar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 from a set, not caring how it is selected. We can do this by using a local definition, i.e. in the body of the function s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x in set S i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stands for some arbitrary member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7772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ively, we could just define a general function for selecting an element from a set. Since we are not interested in the means of selection, we could do this by an implicit function defini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(s:set of X) result: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 &lt;&gt;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 in set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now we can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(_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enever we want to select an element of a se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7CB-499A-47AD-898F-2DD7B73A4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84872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ystem to be modelled is part of a controller for a robot that positions explosives such as dynamite and detonators in a st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ore is a rectangular building. Positions within the building are represented as coordinates with respect to one corner designated the origin. The store’s dimensions are represented as maximum x and y coordin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s in the store are rectangular packages, aligned with the walls of the store. Each object has dimensions in the x and y directions. The position of an object is represented as the coordinates of its lower left corner. All objects must fit within the store and there must be no overlap between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FC3-447E-45FE-A14A-42C621B86A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066680"/>
            <a:ext cx="769608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sitioning controller must provide functions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return the number of objects in a given s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suggest a position where a given object may be accommodated in a given s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update a store record to note that a given object has been placed in a given posi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update a store record to note that all the objects at a given set of positions have been remov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rpose of the mode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clarify the rules for the storage of explosiv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52D-3934-49CF-A6B4-26B4385C5A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530360" y="1149480"/>
            <a:ext cx="6616800" cy="44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4572000"/>
            <a:ext cx="1981080" cy="1447920"/>
            <a:chOff x="685800" y="4572000"/>
            <a:chExt cx="1981080" cy="1447920"/>
          </a:xfrm>
        </p:grpSpPr>
        <p:sp>
          <p:nvSpPr>
            <p:cNvPr id="104" name=""/>
            <p:cNvSpPr/>
            <p:nvPr/>
          </p:nvSpPr>
          <p:spPr>
            <a:xfrm>
              <a:off x="685800" y="45720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60199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44197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867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1240" y="1454040"/>
            <a:ext cx="21970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5640" y="2216160"/>
            <a:ext cx="21970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5880" y="1758960"/>
            <a:ext cx="74916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267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2840" y="4267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5720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95F-83AC-4D86-B008-F6DF96E0C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143000"/>
            <a:ext cx="746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ore  :: conte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bject :: posi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length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length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338-8A46-4E54-A498-3581EE3D9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dea of a set 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69608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unordered collection of val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rder doesn’t mat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 do duplic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E12-592D-4E68-9CD7-9D7A26BBC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9907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066680"/>
            <a:ext cx="662940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ore  :: conte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k_Store(contents,xbound,ybound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F0E-9F49-4311-A018-7AED1E4600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38360" y="1042920"/>
            <a:ext cx="76435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ore  :: conte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k_Store(contents,xbound,ybound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all o in set contents &amp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Bounds(o,xbound,ybound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t exists o1, o2 in set content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1 &lt;&gt; o2 and Overlap(o1,o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Bound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Object * nat * nat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Bounds(o,xb,yb) =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324-3C4B-490E-B307-E36170D6F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38360" y="1042920"/>
            <a:ext cx="7643520" cy="43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ore  :: conte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bound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k_Store(contents,xbound,ybound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all o in set contents &amp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Bounds(o,xbound,ybound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t exists o1, o2 in set content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1 &lt;&gt; o2 an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verlap(o1,o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verla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verlap(o1,o2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DC1-D043-4A83-8401-6464928453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066680"/>
            <a:ext cx="75438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return the number of objects in a given s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umObjects: Store -&gt; 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suggest a position where a given object may be accommodated in a given st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: nat * nat * Store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update a store record to note that a given object has been placed in a given posi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ce: Object * Store Point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update a store record to note that all the objects at a given set of positions have been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move: Store * set of Point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F74-D3E1-4BA5-89D4-DAE8A108E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541008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umObjects: Store -&gt; 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umObject(s)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F0F-3ABC-4E89-AC52-1F4C1DFBA9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066680"/>
            <a:ext cx="76197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: nat * nat * Store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(xlength,ylength,s) ==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133720"/>
            <a:ext cx="76201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might be any number of viable positions, but the requirements are not specific about which one ought to be returned - any point with sufficient space will 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ce we do not have to give a specific point, there is not need to give an algorithm for finding a suitable point: we can use a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mplicit function defini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e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257-1A37-4727-BB07-ECA77F9CCE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066680"/>
            <a:ext cx="7848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implicit definition does not have a body, but does describe the result by means of a postcon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functionName (input vars &amp; types) result &amp;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e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ost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qrt(x:real) r: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e   x &g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ost  r*r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DD5-0E9B-4422-B3EB-047D004056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066680"/>
            <a:ext cx="76197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: nat * nat * Store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(xlength,ylength,s) ==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286000"/>
            <a:ext cx="80010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ggestPos(xlength:nat, ylength:nat, s:Store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[Poi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st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if there is a point with enough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-- then return some point where ther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--      enough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-- else return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exists poss:Point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mAt(x,length,ylength,s,p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n RoomAt(xlength,ylength,s,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=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F17-9723-4AFD-8C84-64C8D3DAE2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066680"/>
            <a:ext cx="7619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mAt: Object * Store * Point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omAt(o,s,p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et new_o = mk_Object(p,o.xlength,o.ylength)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9B5-37B8-48B1-BF87-EAD0395617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066680"/>
            <a:ext cx="74674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update a store record to note that a given object has been placed in a given posi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ce: Object * Store Point -&gt;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ce(o,s,p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et new_o = mk_Object(p,o.xlength,o.ylength)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_Store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2CA-0D25-4BC2-B654-AFF0C13DF2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ould you represent each of the following as a set? Why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2193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partures display board at an airport, showing outgoing flights in order of depar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2767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atabase keeping track of who is in a restricted area at any given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A48-FFE1-4F07-9B36-D379796AFE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990720"/>
            <a:ext cx="77724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extension - Suppose we have a site which consists of a collection of stor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re :: name : to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ite = set of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site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all store1, store 2 in set sit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re1. name = store2.name =&gt; store1 = 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we need to take an inventory of the s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entory = set of inventory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entoryItem :: store :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em  :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C0F-A6A8-47CA-A86F-F8D815AA2B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se Study: the explosives storage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390680"/>
            <a:ext cx="7848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could take the union of the individual inventories of each sto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iteInventory: Site -&gt; Inven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iteInventory(site) =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union{StoreInventory(store) | store in set sit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reInventory: Store -&gt; Inven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oreInventory(store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mk_InventoryItem(store.name,o) 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 in set store.content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6A4-EAD6-4659-9E37-AE55B81A47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143000"/>
            <a:ext cx="78483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et construc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dividual sets can be defin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um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erators on sets: defined with signatures; include distributed versions of union and inters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explosives 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implicit specification (postcondition) when there is no need to give a particular resul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auxiliary function definitions to break down and simplify the task of building the mod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1B9-0F1C-46CA-AA94-B4958B4250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set type construc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219320"/>
            <a:ext cx="769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nite set type constructor i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of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7339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re the types of the following express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343400"/>
            <a:ext cx="746748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1, -3, 1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{9, 13, 77}, {32, 8}, {}, {77}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5BD-3991-4026-9E92-55453937F9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set type construc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61920"/>
            <a:ext cx="807732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ype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et of X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 the class of all possible finite sets of values drawn from the type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of nat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ts of non-zero Natural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of Studen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ts of student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of (seq of char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ts of sequences of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e.g. sets of na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of (set of in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ts of sets of integers, e.g.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{3,56,2},{-2},{},{-33,5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C2E-2790-40DE-8DB3-B9FFC8EE9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ng sets 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259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Enum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276720"/>
            <a:ext cx="79246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2) Subrange (integers only)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integer1,...,integer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12,...,20}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12,...,12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9,...,3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90720"/>
            <a:ext cx="33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0) Empty Se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945-0469-4E2D-83F7-942A89FCD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ng sets 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914400"/>
            <a:ext cx="320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) Compreh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1523880"/>
            <a:ext cx="7467840" cy="3280320"/>
            <a:chOff x="838080" y="1523880"/>
            <a:chExt cx="7467840" cy="3280320"/>
          </a:xfrm>
        </p:grpSpPr>
        <p:sp>
          <p:nvSpPr>
            <p:cNvPr id="63" name=""/>
            <p:cNvSpPr/>
            <p:nvPr/>
          </p:nvSpPr>
          <p:spPr>
            <a:xfrm>
              <a:off x="838080" y="1523880"/>
              <a:ext cx="7239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express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|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binding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&amp;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predicat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2209680"/>
              <a:ext cx="7391520" cy="25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The set of values of the expression under each assignment of values to bound variables satisfying the predicat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onsider all the values that can be taken by the variables in the binding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Restrict this to just those combinations of values which satisfy the predicat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valuate the expression for each combination. This gives you the values in the se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.g.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{ x**2 | x:nat &amp; x &lt; 5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873-B665-4190-95A3-39DFD95F4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ng sets 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143000"/>
            <a:ext cx="761976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amples of Comprehen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x | x:nat &amp; x &lt; 5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y | y:nat &amp; y &lt; 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x+y | x,y:nat &amp; x&lt;3 and y&lt;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55E-B643-4DE4-9A90-4A71A9DD21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ining sets 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Finiten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76960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VDM-SL, sets should be finite, so be careful when writing comprehensions that you don’t define a predicate that could be satisfied by an infinite number of valu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32A-EEEC-4749-906F-B939612B7D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15:39:36Z</dcterms:created>
  <dc:creator>Centre for Software Reliability</dc:creator>
  <dc:description/>
  <dc:language>en-US</dc:language>
  <cp:lastModifiedBy>Centre for Software Reliability</cp:lastModifiedBy>
  <dcterms:modified xsi:type="dcterms:W3CDTF">1999-11-25T18:15:30Z</dcterms:modified>
  <cp:revision>113</cp:revision>
  <dc:subject/>
  <dc:title>Principal Data Abstractions 1: Sets and Sequences</dc:title>
</cp:coreProperties>
</file>