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176-2ED7-4E7A-8225-ACBBC2F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CBA-C6EB-4609-8EC3-E1529227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CE2-A255-4E26-91A7-ADF62FE3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B74-959E-49C3-9F07-C051986D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A45-EF0B-4018-953C-CCD174C9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05C-CF0C-43E2-A3CC-70F59420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967-E503-4C69-A844-EAA34F2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D21-6342-4890-A4E6-4C6E908C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1FA-A477-4223-95BC-B5DD2B7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8AD-0F31-46FB-8DBE-2512118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757-8DDA-4301-9C54-BD24827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B02-862C-4BBE-9ADC-D149147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2880" y="1239840"/>
            <a:ext cx="8601120" cy="5207040"/>
          </a:xfrm>
          <a:prstGeom prst="rect">
            <a:avLst/>
          </a:prstGeom>
          <a:solidFill>
            <a:srgbClr val="d5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Eurostile ExtendedTwo"/>
              </a:rPr>
              <a:t>TIVD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6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Defining Data and Function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0A37-32F0-4E8A-880A-9F5A35C965A4}" type="slidenum"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231840"/>
            <a:ext cx="174276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Eurostile ExtendedTwo"/>
              </a:rPr>
              <a:t>Defining Data and Functionalit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ter Gorm L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78C-3CA9-4471-ABCE-63AAF48434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nstance Variable Acces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371240"/>
            <a:ext cx="7958160" cy="1924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variables can only be accessed directly from within the object they belong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d/write instance variables “from outside” access operations must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52440" y="3218040"/>
            <a:ext cx="4889520" cy="31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string := 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etName: () ==&gt;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Name ()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9EE-9745-472D-A147-477BB780B6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57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EB9-097B-4E90-B2F3-2825F6EC3B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ype Defin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385308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0360" y="1599840"/>
            <a:ext cx="385272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63520" y="5951520"/>
            <a:ext cx="16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28520" y="5715000"/>
            <a:ext cx="3150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ariants can be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94B-FEF8-45EA-B25D-F2172CBE454C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557360"/>
            <a:ext cx="7758360" cy="30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jun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jun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=&gt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&lt;=&gt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impl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=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&lt;&gt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qua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797360"/>
            <a:ext cx="7096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fied expressions can also be considered to be basic operators but we will present them together with the other general expres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63A-100E-4807-8227-2288149A29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Numeric (1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3" name=""/>
          <p:cNvSpPr/>
          <p:nvPr/>
        </p:nvSpPr>
        <p:spPr>
          <a:xfrm>
            <a:off x="696960" y="1366920"/>
            <a:ext cx="7758000" cy="4774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ry min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olute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- 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*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/ 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er div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**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584-60DD-4039-968C-69AEF4B0B0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Numeric (2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52480"/>
            <a:ext cx="7758000" cy="2562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th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th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or eq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=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or eq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&gt;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eq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FE1-231B-4BDC-9D7F-DF545D5CAC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658440"/>
            <a:ext cx="8207640" cy="78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Product and Record Typ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3400" y="1528920"/>
            <a:ext cx="7553520" cy="4908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ype defini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1 * A2 * … *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a tu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a1,a2,…,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ype defini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:: selfirst : A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selsec   : 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…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seln     :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a recor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A(a1,a2,...,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279-F56F-4E21-A9BA-B37588EA13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Record Defini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321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type could be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ress :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use  : House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et :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wn   : Postal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With field sel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ress(15,"The Grove",&lt;London&gt;).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F8-2DE0-45BF-B97F-A02074A561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Tuple Defini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tuple type could type could be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* Postal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n fields can be used using the .# op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k_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12,"Abstraction Avenue",&lt;Manchester&gt;)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#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74A-8062-48A4-A02D-BE8DD483ED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3840" y="7380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nvaria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413000"/>
            <a:ext cx="5058000" cy="2689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84400"/>
            <a:ext cx="2147760" cy="1814400"/>
          </a:xfrm>
          <a:custGeom>
            <a:avLst/>
            <a:gdLst/>
            <a:ahLst/>
            <a:rect l="l" t="t" r="r" b="b"/>
            <a:pathLst>
              <a:path w="736" h="528">
                <a:moveTo>
                  <a:pt x="200" y="496"/>
                </a:moveTo>
                <a:cubicBezTo>
                  <a:pt x="104" y="464"/>
                  <a:pt x="0" y="336"/>
                  <a:pt x="8" y="256"/>
                </a:cubicBezTo>
                <a:cubicBezTo>
                  <a:pt x="16" y="176"/>
                  <a:pt x="176" y="32"/>
                  <a:pt x="248" y="16"/>
                </a:cubicBezTo>
                <a:cubicBezTo>
                  <a:pt x="320" y="0"/>
                  <a:pt x="392" y="152"/>
                  <a:pt x="440" y="160"/>
                </a:cubicBezTo>
                <a:cubicBezTo>
                  <a:pt x="488" y="168"/>
                  <a:pt x="488" y="48"/>
                  <a:pt x="536" y="64"/>
                </a:cubicBezTo>
                <a:cubicBezTo>
                  <a:pt x="584" y="80"/>
                  <a:pt x="720" y="192"/>
                  <a:pt x="728" y="256"/>
                </a:cubicBezTo>
                <a:cubicBezTo>
                  <a:pt x="736" y="320"/>
                  <a:pt x="672" y="408"/>
                  <a:pt x="584" y="448"/>
                </a:cubicBezTo>
                <a:cubicBezTo>
                  <a:pt x="496" y="488"/>
                  <a:pt x="296" y="528"/>
                  <a:pt x="200" y="496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93560" y="2635200"/>
            <a:ext cx="587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00760" y="2903400"/>
            <a:ext cx="1222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v_D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573360"/>
            <a:ext cx="7816680" cy="28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ve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 == 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Pai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 the first is small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(n,r) == n 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jointSe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of set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s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, s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&lt;&gt; s2 =&gt; s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2 = 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BCC-8923-4554-BE0E-D5DCFFC3CA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VDM++ Class Outlin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6" name=""/>
          <p:cNvSpPr/>
          <p:nvPr/>
        </p:nvSpPr>
        <p:spPr>
          <a:xfrm>
            <a:off x="1536840" y="1308240"/>
            <a:ext cx="6387840" cy="50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class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class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1700280"/>
            <a:ext cx="2771640" cy="66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440080"/>
            <a:ext cx="2771640" cy="175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305240"/>
            <a:ext cx="2771640" cy="66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113440"/>
            <a:ext cx="2771640" cy="66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7080" y="1728720"/>
            <a:ext cx="69840" cy="627120"/>
          </a:xfrm>
          <a:custGeom>
            <a:avLst/>
            <a:gdLst>
              <a:gd name="textAreaLeft" fmla="*/ 0 w 69840"/>
              <a:gd name="textAreaRight" fmla="*/ 25200 w 6984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7080" y="2457360"/>
            <a:ext cx="69840" cy="167976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9760"/>
              <a:gd name="textAreaBottom" fmla="*/ 1636200 h 167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8520" y="4316400"/>
            <a:ext cx="68400" cy="650880"/>
          </a:xfrm>
          <a:custGeom>
            <a:avLst/>
            <a:gdLst>
              <a:gd name="textAreaLeft" fmla="*/ 0 w 68400"/>
              <a:gd name="textAreaRight" fmla="*/ 24480 w 6840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7080" y="5124600"/>
            <a:ext cx="69840" cy="660240"/>
          </a:xfrm>
          <a:custGeom>
            <a:avLst/>
            <a:gdLst>
              <a:gd name="textAreaLeft" fmla="*/ 0 w 69840"/>
              <a:gd name="textAreaRight" fmla="*/ 25200 w 69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8840" y="1863720"/>
            <a:ext cx="215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objec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2720" y="3130560"/>
            <a:ext cx="122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0560" y="4475160"/>
            <a:ext cx="2115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49360" y="5259600"/>
            <a:ext cx="2534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42A-BADF-45A8-B81A-888FCEE024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he Telegram Processo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5480" y="1461960"/>
            <a:ext cx="8548560" cy="1423080"/>
            <a:chOff x="555480" y="1461960"/>
            <a:chExt cx="8548560" cy="1423080"/>
          </a:xfrm>
        </p:grpSpPr>
        <p:sp>
          <p:nvSpPr>
            <p:cNvPr id="110" name=""/>
            <p:cNvSpPr/>
            <p:nvPr/>
          </p:nvSpPr>
          <p:spPr>
            <a:xfrm>
              <a:off x="3432960" y="1774080"/>
              <a:ext cx="1662120" cy="75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legram Process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74120" y="2139840"/>
              <a:ext cx="11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17040" y="2145600"/>
              <a:ext cx="1158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5480" y="1610280"/>
              <a:ext cx="185112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equence of letters, digits and blank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5200" y="1461960"/>
              <a:ext cx="2868840" cy="14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umber of chargeable words and any overlength wor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12720" y="2990880"/>
            <a:ext cx="8116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in telegram delimited by sequence of bl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legram delimited by ZZZ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terminated by empty telegram (i.e. no 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determines number of chargeable words in each telegram (ZZZZ and STOP are not charge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checks for occurrences of overlength words (more than twelve let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neat listing of telegrams each with word count and indication of occurrence of overlength wor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3C0-57E4-4CBB-A2B1-E4097C8DF2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Data Types for Telegram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7" name=""/>
          <p:cNvSpPr/>
          <p:nvPr/>
        </p:nvSpPr>
        <p:spPr>
          <a:xfrm>
            <a:off x="677880" y="1380960"/>
            <a:ext cx="80503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egram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egr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egram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1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lpha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 == w &lt;&gt; "ZZZZ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Num = Digit | Let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i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 == 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'0','1','2','3','4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5','6','7','8','9'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 == 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'A','B',...,'Z'} -- cheati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:: message     : Tele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ge-word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length 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0AB-B8EF-4E12-91C2-A4EE504434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362-0F52-4DA2-8B29-8F0CC82517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049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Function Definitions (1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08760" cy="490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func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: A * B * … * Z -&gt; R1 * R2 * … * 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a,b,…,z)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reexpr(a,b,…,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ostexpr(a,b,…,z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func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a:A, b:B, …, z:Z) r1:R1, …, rn: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reexpr(a,b,…,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ostexpr(a,b,…,z,r1,…,r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functions cannot be executed by the VDM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CB0-0E82-4E12-9799-BC1EE4040F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Function Definitions (2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226880"/>
            <a:ext cx="8236080" cy="444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explicit func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a:A, b:B, …, z:Z) r1:R1, …, rn:Rn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reexpr(a,b,…,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ostexpr(a,b,…,z,r1,…,r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explicit functions are a non-standard combination of the implicit colon style with an explicit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explicit func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: A * B * … * Z -&gt; R1 * R2 * … * 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a,b,…,z)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not yet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reexpr(a,b,…,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ostexpr(a,b,…,z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ECE-841C-416F-8FA1-EB97C784AA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560" y="469800"/>
            <a:ext cx="83422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Quoting pre- and post-cond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5" name=""/>
          <p:cNvSpPr/>
          <p:nvPr/>
        </p:nvSpPr>
        <p:spPr>
          <a:xfrm>
            <a:off x="623880" y="1322280"/>
            <a:ext cx="8104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n implicit function definition lik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Fn(n,m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 &lt; 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 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 = 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 =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extra functions which can be used elsewhere are automatically crea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ImplF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ImplFn(n,m,b) =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n &lt;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ImplF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ImplFn(n,m,b,r) =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 = 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 =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10E-CE98-4795-8019-B8316B28CB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Function Defin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8280" y="1414080"/>
            <a:ext cx="82548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n implicit function definition c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qrt (x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 r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r * r = x and r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n explicit function definition c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(v1, v2)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1 &gt;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1AB-05CB-475A-B820-F6E8B96767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Recursive Functions and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Pre-cond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7920" y="1260360"/>
            <a:ext cx="8202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recursive function definition could look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 (n)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 * fac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conditions can also be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vision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vision(p,q)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q &lt;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24F-DC5A-4B42-9ECC-934188254F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Functions for Telegram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1" name=""/>
          <p:cNvSpPr/>
          <p:nvPr/>
        </p:nvSpPr>
        <p:spPr>
          <a:xfrm>
            <a:off x="549360" y="1389240"/>
            <a:ext cx="7910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alyse(tels : Telegrams) reps :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 l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p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s(i) = AnalyseTele(tels(i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alyseTele: Telegram -&gt;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alyseTele(tel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_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(tel,WordCount(tel),Overlength(tel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Count: Telegram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Count(tel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j | j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(j) &lt;&gt; "STOP"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length: Telegram -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length(tel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set e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 &gt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364-00DB-4CB2-B4A8-99D4058A5A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57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D8F-44F5-42C0-A254-334458CE25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61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47-E82C-4E7C-8FD3-5F150C869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8440" y="1341000"/>
            <a:ext cx="4219560" cy="490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and let-b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-then-els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s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fied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expres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pl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xpres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mbda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9000" y="1617840"/>
            <a:ext cx="4186440" cy="2619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and Self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membership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ompariso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reference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6000" y="143388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al VDM++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76A-5F96-4B0E-A325-62B5DF3009E2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Let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1378080"/>
            <a:ext cx="82152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xpressions are used for naming complex sub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 = b ** 2 - 4 * a *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((-b – sqrt(d))/2a,(-b + sqrt(d))/2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xpressions can also be used for breaking down complex data structures into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Report(tel,-,ov) = 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-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30B-BAE0-4C7E-A438-A5EC4E120E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Let-b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2520" y="1599840"/>
            <a:ext cx="83502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-be-such-that expressions are even more powerful. A free choice can be expres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 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arges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, l(i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_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mutations(list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 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,j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&lt; j =&gt; l(i) &lt;= l(j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04D-A94A-4C92-811D-9802991E33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469800"/>
            <a:ext cx="83422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f-then-els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43" name=""/>
          <p:cNvSpPr/>
          <p:nvPr/>
        </p:nvSpPr>
        <p:spPr>
          <a:xfrm>
            <a:off x="563400" y="1455840"/>
            <a:ext cx="841248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-then-else expressions are similar to those known from programming langua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 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q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q(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lt;Zero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 &lt;=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 &lt;=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lt;Digi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lt;Numb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BDE-899A-49B2-B058-2736476244C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469800"/>
            <a:ext cx="821376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ases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45" name=""/>
          <p:cNvSpPr/>
          <p:nvPr/>
        </p:nvSpPr>
        <p:spPr>
          <a:xfrm>
            <a:off x="662040" y="1471680"/>
            <a:ext cx="848196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s expressions are very powerful because of  pattern match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Loan(a,b) -&gt; a^” has borrowed “^b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Receive(a,b) -&gt; a^” has returned “^b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Status(l) -&gt; l^” are borrowing “^Borrows(l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&gt; ”some other command is used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(a’,-,a’) -&gt; Expr(a’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(b,b,c)   -&gt; Expr2(b,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6DB-EA18-4913-82EF-90B037C2D70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t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449360"/>
            <a:ext cx="75517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numer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a,3,3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comprehension can either use set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a+2 |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a,a) in s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1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1,1)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ype bind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a | a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amp; a&lt;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range expres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3,...,10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0A6-9C7F-493C-844D-CD3D005011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equenc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94800" y="1436400"/>
            <a:ext cx="82458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enumer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[7.7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”I”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comprehension can only use a set bind with numeric values (numeric order is use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[i*i |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1,2,4,6}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[i |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6,3,2,7} &amp;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=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ce expres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[4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”string”,9,4](2,...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70D-1C0F-4950-895D-D491F210AA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Map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6960" y="1346040"/>
            <a:ext cx="782784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enumer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1|-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7|-&gt;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comprehension can either use type binding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i|-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i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| i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a+b|-&gt;b-a |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1,2}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3,6}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{i|-&gt;i |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1,...,10}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= 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must be careful to ensure that every domain element maps uniquely to one range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CCB-5895-4780-B6FD-8D413B3196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Tupl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5280" y="144432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uple expression looks lik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2,7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{|-&gt;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uple values from a tuple type will al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he same length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same types (possible union types) at corresponding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ther hand the length of a sequence value may vary but the elements of the sequence will always be of the sam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2ED-FB91-489A-9D70-FF1A56BDB4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Record Express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5" name=""/>
          <p:cNvSpPr/>
          <p:nvPr/>
        </p:nvSpPr>
        <p:spPr>
          <a:xfrm>
            <a:off x="698400" y="1433520"/>
            <a:ext cx="79106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two type definitions lik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:: 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of n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 :: 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can write expressions lik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(1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{8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B(3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(7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{1,4}), n|-&gt;1, s|-&gt;{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B(3,4), r|-&gt;5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 is called “the record modifi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C93-20C2-4EE2-A3B5-1D142CEB873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Access Modifie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90600"/>
            <a:ext cx="8375760" cy="457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M++ Class Members may have their access specified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for all members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modifiers may no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rro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a subclass can not override a public operation in the superclass with a private operation in the sub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ifiers can be used for definitions which are independent of the objec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0AC-7039-4A7F-B91A-D298F87B75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Apply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1240" y="1490760"/>
            <a:ext cx="755352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pplica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 =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-&gt;5, 6|-&gt;{}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pplica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[2,7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select express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A(2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{6,9}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1BF-F89E-47D9-8A09-AAF70294AA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s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1280" y="1419120"/>
            <a:ext cx="808524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values and record values can be tes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-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_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ield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(5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lso yield true, given that C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a record type having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which 5 belongs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A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B(3,7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lways yield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A(6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lso always yield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C58-D30E-47C8-8DD4-046305CA7A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Defin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61" name=""/>
          <p:cNvSpPr/>
          <p:nvPr/>
        </p:nvSpPr>
        <p:spPr>
          <a:xfrm>
            <a:off x="792000" y="1512720"/>
            <a:ext cx="7426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ight-hand side of a define expression has access to the instance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62120" y="3092400"/>
            <a:ext cx="498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11120" y="3276720"/>
            <a:ext cx="61999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= OpCall(arg1,arg2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6480" y="4184640"/>
            <a:ext cx="623484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parts of the state could simply be re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1120" y="4764240"/>
            <a:ext cx="61999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= instance_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040" y="2616120"/>
            <a:ext cx="730800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ate could be changed by an operation cal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DE4-A189-40B2-A958-65E53ABE005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Lambda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3480" y="1501920"/>
            <a:ext cx="755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 expressions are an alternative way of defining explicit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amp; n *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take a type bind li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b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amp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more complex typ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(a,b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amp;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754-EDD9-4B3C-B65A-864DE0AA80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620640"/>
            <a:ext cx="8112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New and Self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6480" y="1393560"/>
            <a:ext cx="755352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expression creates an instance of a class and yields a reference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las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will create an insta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 its referen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yields the reference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lass with instance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will initialize an object and yield its reference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reat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=&gt;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reate (n)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( a := 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sel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8840" y="3809880"/>
            <a:ext cx="7551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E84-4E6F-4840-AF6C-4AC20E6AD9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ass Membership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3" name=""/>
          <p:cNvSpPr/>
          <p:nvPr/>
        </p:nvSpPr>
        <p:spPr>
          <a:xfrm>
            <a:off x="689760" y="1373040"/>
            <a:ext cx="616176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if an object is of a particular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34320" y="1987560"/>
            <a:ext cx="552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of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lass_name,object_re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280" y="2550960"/>
            <a:ext cx="79675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s true if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object_re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f clas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_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subclas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_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6440" y="3473280"/>
            <a:ext cx="629424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for the baseclass of a given ob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5360" y="4140360"/>
            <a:ext cx="6199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ofbas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lass_name,object_re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2280" y="4770360"/>
            <a:ext cx="74120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result to be true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bject_re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ust be of clas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_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_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not have any super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2DC-E79C-43D6-B4DF-4E70C9498B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24560" y="1503360"/>
            <a:ext cx="3459600" cy="1280880"/>
            <a:chOff x="2824560" y="1503360"/>
            <a:chExt cx="3459600" cy="1280880"/>
          </a:xfrm>
        </p:grpSpPr>
        <p:sp>
          <p:nvSpPr>
            <p:cNvPr id="181" name=""/>
            <p:cNvSpPr/>
            <p:nvPr/>
          </p:nvSpPr>
          <p:spPr>
            <a:xfrm>
              <a:off x="3652200" y="2488680"/>
              <a:ext cx="1017360" cy="2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ret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24560" y="1503360"/>
              <a:ext cx="1085400" cy="2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mpo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7760" y="2488680"/>
              <a:ext cx="896400" cy="2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14600" y="2152800"/>
              <a:ext cx="138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5960" y="2155320"/>
              <a:ext cx="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3480" y="2155320"/>
              <a:ext cx="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6320" y="1503360"/>
              <a:ext cx="1006200" cy="2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8960" y="19540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5480" y="1819800"/>
              <a:ext cx="184320" cy="133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98000" y="1965240"/>
              <a:ext cx="0" cy="5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06440" y="1808640"/>
              <a:ext cx="184320" cy="133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874880" y="3141360"/>
            <a:ext cx="486252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 Secre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: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class(Secretary,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class(Employee,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class(Manager,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baseclass(Employee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baseclass(Secretary, 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ofbaseclass(Temporary,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95080" y="36482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38240" y="452268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90800" y="543708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5400" y="40863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36360" y="49942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44280" y="59022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8A8-4A5B-4F07-821E-3D60E85CC3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5920" y="469800"/>
            <a:ext cx="848016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bject Comparison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00" name=""/>
          <p:cNvSpPr/>
          <p:nvPr/>
        </p:nvSpPr>
        <p:spPr>
          <a:xfrm>
            <a:off x="849240" y="1539720"/>
            <a:ext cx="286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wo ob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1520" y="2077920"/>
            <a:ext cx="3517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obj1,obj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7800" y="2616120"/>
            <a:ext cx="812016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if and only if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obj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bj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instances of the sam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m,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m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nager(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7800" y="4319640"/>
            <a:ext cx="5465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of baseclasses of two ob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2600" y="4857840"/>
            <a:ext cx="418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bas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obj1,obj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7800" y="5283360"/>
            <a:ext cx="7904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bas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m,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Monotype Sorts" charset="2"/>
              <a:buChar char="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mebase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m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Temporary(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47480" y="328464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4120" y="52689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5160" y="294804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19560" y="561348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59B-47B4-43C6-846F-B9336EEF193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bject Reference Express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7880" y="1459080"/>
            <a:ext cx="785016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s perform comparison of object 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only yield true, if the two objects are in fact the same in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yield true, if the two objects are not the same instance, even if they have the same values in all instanc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38B-7262-424A-8D8D-CDF81E121A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3480" y="731520"/>
            <a:ext cx="7034400" cy="45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Patterns and Pattern Matching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341360"/>
            <a:ext cx="7543800" cy="471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are empty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are matched thereby binding the pattern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pecial patter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ar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fo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DEB-79CD-4A7E-A7A0-855B66FC78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24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ass can have a number of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identical to operations with a reference to the class name in retur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does not need to be made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voked when a new instance of a class get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FF2-8813-4691-8AE0-D0D38DEA38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Binding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271160"/>
            <a:ext cx="8169120" cy="513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nding matches a pattern to a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p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note a set expression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ound to the elements of the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pat : 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ound to the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bindings cannot be executed by the interpreter, because such types can be infinitel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75E-FB92-4F08-9C7E-E10316551B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BA7-0952-45DB-8CD9-4C2DD22596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peration Definitions (1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4280" y="1277640"/>
            <a:ext cx="8467920" cy="475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operation defini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: A * B * ... ==&gt; 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(a,b,...)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m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operations defini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(a:A, b:B,...) r: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d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wr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A89-469B-46B6-98AA-194888F1C0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peration Definitions (2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8840" y="1290240"/>
            <a:ext cx="8467560" cy="475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operation defini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: A * B * ... ==&gt; 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(a,b,...)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not yet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ated operation defini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: A * B * ... ==&gt; 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(a,b,...) =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subclass responsi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EBB-2E7F-4D67-8F20-11BA52C438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Operation Definitions (3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in VDM++ can be over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efinitions of operations with sam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 types must not be overlapping statically (structural equivalence omitting invariant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6B9-FF28-40F1-8F60-7C5CC99CD85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Example Operation Defin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0120" y="1339560"/>
            <a:ext cx="82155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 implicit operation definition could look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draw(amoun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newBalanc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 r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mit  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alanc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alance - amount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alance + amount = balance~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Balance =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 explicit operation definition could look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dra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=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draw(amount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 balance := balance -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alance - amount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440-3AAF-48AE-BF1F-E45ED87D73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052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964-949B-4ACD-8FD6-7761E072B2D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3846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and Let-be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oop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loop stat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6840" y="1599840"/>
            <a:ext cx="384624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deterministic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ption handling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ty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5C8-8E51-4638-97CE-6D86A4AF717D}" type="slidenum">
              <a:t>5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560" y="620640"/>
            <a:ext cx="8112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Let and Let-be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" y="1479600"/>
            <a:ext cx="84261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statements are used for naming complicated constructs and for decomposing complex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s’ = {c |-&gt; cs(c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s}}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ct’ = {s |-&gt; ct(s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c}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ub_stm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be-such-that statements are even more powerful. A free choice can be expres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 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arge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, l(i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ub_stm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mutations(list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 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,j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 &amp; i &lt; j =&gt; l(i) &lt;= l(j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E14-05F1-46D8-B283-A7976CC261D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Define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8240" y="1587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binding of the result of an operation call to a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_(r,-) = OpCal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(x := r /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165-3C91-4626-BDE0-B3D9397FB9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 </a:t>
            </a:r>
            <a:r>
              <a:rPr b="0" lang="da-DK" sz="2800" spc="-1" strike="noStrike">
                <a:solidFill>
                  <a:srgbClr val="000000"/>
                </a:solidFill>
                <a:latin typeface="Courier New"/>
              </a:rPr>
              <a:t>CPRNo</a:t>
            </a: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 Constructo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8520" y="1355760"/>
            <a:ext cx="813420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P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date : 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de: Digits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PRNo: Date * Patient`Sex * CPR ==&gt; CP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PRNo(d,sex,cpr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date :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code := cpr.GenerateUniqueCode(d,s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CP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6640" y="4146480"/>
            <a:ext cx="722160" cy="258840"/>
          </a:xfrm>
          <a:prstGeom prst="rect">
            <a:avLst/>
          </a:prstGeom>
          <a:solidFill>
            <a:srgbClr val="3333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5520" y="4133880"/>
            <a:ext cx="722520" cy="258840"/>
          </a:xfrm>
          <a:prstGeom prst="rect">
            <a:avLst/>
          </a:prstGeom>
          <a:solidFill>
            <a:srgbClr val="3333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44480" y="1362240"/>
            <a:ext cx="722520" cy="258480"/>
          </a:xfrm>
          <a:prstGeom prst="rect">
            <a:avLst/>
          </a:prstGeom>
          <a:solidFill>
            <a:srgbClr val="3333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059-0D89-4B41-A41E-6A5C26D469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Block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7880" y="1306440"/>
            <a:ext cx="82454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rresponds to block statements from traditional high-level programming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can contain local variables, which must be typed and can be init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c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a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c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b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oo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stmt1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stmt2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stmt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turns a value the execution of the block is terminated and this value is returned as the result of the entir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0F3-B901-4BA0-B96C-38459C81B54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Assign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363320"/>
            <a:ext cx="75531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 statem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 generalisation of assignment statements from traditional high-level programming language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used to change the value of a global or local st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me tha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 global or local state component of typ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hen it can be assigned a value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x :=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omplex assignments exists. Assum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of record type with a field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is a map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x.s(3) :=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r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938-1CBF-4892-A38E-B3262CA14F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5560" y="469800"/>
            <a:ext cx="83422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If-then-else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1392120"/>
            <a:ext cx="841212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-then-else statements are similar to those known from programming langu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 set do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qs := rq(c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 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 = 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en 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lt;Zero&g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&lt;= i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 &lt;= 9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en 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lt;Digit&g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 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lt;Numb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Notice that the consequence and alternative parts are stat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FD0-C4C5-4D08-8ED4-4A75D2BC3E4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5560" y="469800"/>
            <a:ext cx="83422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Cases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2" name=""/>
          <p:cNvSpPr/>
          <p:nvPr/>
        </p:nvSpPr>
        <p:spPr>
          <a:xfrm>
            <a:off x="574560" y="1400040"/>
            <a:ext cx="86202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s statements are very powerful because of  pattern match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as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com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Loan(a,b) -&gt;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a^” has borrowed “^b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Receive(a,b) -&gt;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a^” has returned “^b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Status(l) -&gt;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l^” are borrowing “^Borrows(l)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-&gt;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”some other command is used”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as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a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A(a’,-,a’) -&gt; Expr(a’)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A(b.b.c)   -&gt; Expr2(b,c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Notice that the bodies of the alternatives are stat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C86-57BA-4A35-A4B5-514D9FB5CD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For Loop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531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x for loop state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for loop state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 for loop state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133720"/>
            <a:ext cx="61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d = low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p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e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54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etexp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5105520"/>
            <a:ext cx="40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eqexp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D79-E102-4401-8562-DFBC291B05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While Loop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loop stateme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ecalculated at the termination of each evaluation of the body stat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53920" y="242244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p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A7F-A1E4-4EA8-B30D-675FF05868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Nondeterministic Statemen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deterministic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tains a sequence of statements that are executed in arbitrary order.</a:t>
            </a:r>
            <a:br>
              <a:rPr sz="2400"/>
            </a:b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|| (stmt1, stmt2, ..., stmt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876-D820-4256-9792-835257C33B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Return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7175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the value of an expression inside an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60800" y="2666880"/>
            <a:ext cx="20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8320" y="32004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59360" y="376380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61160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if a value is returned by either a call statement or a return statement the execution of the operation is termina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succeeding statements will not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DE9-DA6F-4AF6-9046-9C04028FA2AE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880" y="469800"/>
            <a:ext cx="85168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Exception Handling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8200" y="1944360"/>
            <a:ext cx="75531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xit statement raises an exception: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xpr </a:t>
            </a:r>
            <a:br>
              <a:rPr sz="2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optional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statement: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c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m: Memor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lway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Free(mem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(mem := Allocate(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Command(mem, ...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26D-562C-4D66-9F22-91E05D8ECB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69800"/>
            <a:ext cx="850248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Exception Handling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p statemen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rap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rrorAction(pat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c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m: Memor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lway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Free(mem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(mem := Allocate(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Command(mem, ...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rsive trap statemen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x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{(&lt;NOMEM&gt;) |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1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&lt;BUSY&gt;) |-&gt; DoCommand()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err      |-&gt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2 }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oComman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4D2-7D3C-48B7-9FAE-6039555BB9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3760" y="620640"/>
            <a:ext cx="80326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Expressions, Patterns, B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465-F4B0-484E-A257-543B08BBD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  <a:ea typeface="ＭＳ Ｐゴシック"/>
              </a:rPr>
              <a:t>Error and Identity Statement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8240" y="1409400"/>
            <a:ext cx="75535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tates that the result of a statement is undefined and therefore an error has occurred.</a:t>
            </a:r>
            <a:br>
              <a:rPr sz="24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a = &lt;OK&g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oSometh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se err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y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used to signal that no evaluation takes place.</a:t>
            </a:r>
            <a:br>
              <a:rPr sz="24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a &lt;&gt; []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 := str ^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se sk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565-EA91-4978-B352-279D20C751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I presented today?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Access Modifiers and Constru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Expressions, Patterns, B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Operations and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Continue with you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Present your status to all of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Read chapter 6 before next l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523-9235-4194-A5C9-1874764AFD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ote of the da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6560" y="1265400"/>
            <a:ext cx="8467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today is a race between software engineers striving to build bigger and better idiot-proof programs, and the Universe trying to produce bigger and better idiots. So far, the Universe is win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7640" y="3757680"/>
            <a:ext cx="2926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By Rick 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7280" y="3319560"/>
            <a:ext cx="184608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68D-266E-43B3-9FCC-F06E58D0E4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nstance Variables (1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50160" cy="1749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properties modelled as in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0040" y="3187800"/>
            <a:ext cx="4979880" cy="252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string := 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 &lt;= 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ge &lt;= 9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C58-1EC6-4695-8AAD-B1BF6D8FB4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nstance Variables (2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92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reference type simply written as the class name, 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ity using VDM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7560" y="3495600"/>
            <a:ext cx="4413240" cy="252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string := 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16600" y="3741840"/>
            <a:ext cx="2786040" cy="9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5AF-A631-43DA-9120-B7B569E070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4:47:36Z</dcterms:created>
  <dc:creator>Peter Gorm Larsen</dc:creator>
  <dc:description/>
  <dc:language>en-US</dc:language>
  <cp:lastModifiedBy>Peter Gorm Larsen</cp:lastModifiedBy>
  <dcterms:modified xsi:type="dcterms:W3CDTF">2006-04-26T06:04:46Z</dcterms:modified>
  <cp:revision>18</cp:revision>
  <dc:subject/>
  <dc:title>Defining Data and Function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