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0C3-5F11-49F5-9E5F-90C848F25E8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866-7EE8-41BB-8052-9F9131F1E22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quick examples yield 21, {false}, [3,2]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8C0-0B8F-4FC4-838C-9A4CDED7A98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examples yie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{},{3,1,2},{2,3,4,3}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[8],[7,5],[ ]]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{true},{false},{true,false}]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722-F761-4EA6-A97B-B27966795AC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quick examples y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,2,2,1,6,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true]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{3,2},{3},{1},{4}]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2D18-F259-4EE1-9B05-EED9DD9F708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examples y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1,2,2,1,6,5,8,3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true,false ]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{ 2,3 }, { 3 }, { 1 }, { 5,9 },  { 4 }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5C1F-64B1-4AAF-98F6-3C735A8ACCC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examples y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0,3,6 ]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3,4 ]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9A7-FB1C-43CA-898E-08B329E7BA2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sequence enumeration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4,5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{1},{3},{7}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7,8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mk_( 7,8 )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0,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 false,false,false,false,false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B70-EB2C-4764-94A3-0DD69B4BC8F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quick examples y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4,3,7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5,4,3,7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4,3,7,8,2]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]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9C59-748A-4F77-83E8-239902BFADA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te that there here is a minor fix of what is in the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4898-2452-47B0-9F7D-5CABEEEF6C4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93D-C5D0-4FF8-9489-6AD19A63267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quick examples yield 3, 0 and 4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D0F3-8DC1-4851-858A-66B2D2C53CF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examples y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al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5D80-1A0A-4D1B-9118-D94C10FFE34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examples yie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2,3,4,5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5]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[[6,1],[4,4,4] 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316A-6B23-4FED-A7AA-EDB19F8A857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quick examples y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1,2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}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[1],[3],[2,3]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C7F-39F7-4C39-AAD4-FE895FB5C3F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quick examples yie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1,2,3,4,5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1,2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}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{1,2,3}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108-7440-4417-9558-C0563002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E82-67F8-433A-99E6-0D9489BB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F08-4EEB-475E-863B-DA55C19D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720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148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720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148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05F-5010-47EB-8513-BF1EC6CD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1DE-AF90-47F0-8430-CCA7FE96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7E0-23C4-466B-A099-3CB3988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D66-06E7-4AC1-A71D-B4FCE3D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037-664A-4FB1-A27F-417C1A1E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F3F-2EFF-44E3-B8BE-7A9B36F3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2F8-2B37-4FE2-8CE5-C11EF75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5F4-696A-46FE-B878-3E44456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6D1-89E0-4208-891E-682A3DA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2880" y="1239840"/>
            <a:ext cx="8601120" cy="5207040"/>
          </a:xfrm>
          <a:prstGeom prst="rect">
            <a:avLst/>
          </a:prstGeom>
          <a:solidFill>
            <a:srgbClr val="d5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Eurostile ExtendedTwo"/>
              </a:rPr>
              <a:t>TIVD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6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Modelling ordered colle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6AD-5565-4D14-AB88-B75F2EC5EF94}" type="slidenum"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231840"/>
            <a:ext cx="174276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Eurostile ExtendedTwo"/>
              </a:rPr>
              <a:t>Modelling ordered collec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eter Gorm La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1A3-EA29-4F7C-A1F8-51A6C81ABC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Appl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4800" y="136800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non-empty sequence it is possible to hold of its contents at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application is written as function application, i.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quence(index ex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,2,21,6,5]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 },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](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[3,2],[3,1],[4]](1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1C2-AB43-4089-BA3B-AA5D748324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Modif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0520" y="1249200"/>
            <a:ext cx="822168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non-empty sequence it is possible to obtain a new sequence where the contents of certain indices ar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modification expression looks a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ified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ified mapping goes from index to new value at tha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2,4},{3,1,2},{2,3,4,3}] ++ {1 |-&gt; {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[2,4],[3,1,1],[ ]] ++ {2 |-&gt; [7,5],1 |-&gt; [8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,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,{}] ++ {3 |-&gt; 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,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8AD-5609-450F-B9DE-66EE9AFCB2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Concaten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7360" y="135540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quences A and B can be concatenated together to form a new sequence where A’s elements are followed by B’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concatenation is written as ”A ^ 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,2,2] ^ [1,6,5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] ^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3,2},{3},{1}] ^ [{4}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4AA-A40B-44AD-9D12-21A1D27CE1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Distributed Sequence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Concaten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7800" y="1317240"/>
            <a:ext cx="785052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a sequence of sequences then the elements can be concatenated together in a distributed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quence concatenation is written as 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S” where SS is a sequence of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1,2,2], [1,6,5], [ ], [8,3]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 ],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{3,2},{3},{1}],[ ],[{9,5}],[{4}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2E8-CD7C-4CB6-933E-0A2F4F3932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quence Operato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8" name=""/>
          <p:cNvSpPr/>
          <p:nvPr/>
        </p:nvSpPr>
        <p:spPr>
          <a:xfrm>
            <a:off x="189000" y="1628640"/>
            <a:ext cx="8867520" cy="4142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of na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 ^ l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. con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 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(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. ap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++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. mod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 nat1 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 = l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49320"/>
                <a:tab algn="l" pos="3700440"/>
                <a:tab algn="l" pos="4400640"/>
                <a:tab algn="l" pos="6600960"/>
                <a:tab algn="l" pos="88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 &lt;&gt; l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293-0BFE-4F9E-8C8C-0A11E5E50A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Comprehen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251000"/>
            <a:ext cx="8210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redicates to define sequences im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DM++ formulated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er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dicate part is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eric order of the binding is used to determine the order in th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 number is taken to be the firs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3 * x |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…,2}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 |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…,4} &amp; x &gt; 2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A87-01EE-4388-9DD4-1EA4EE2A0C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6880" y="1495080"/>
            <a:ext cx="840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sequence enumeration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|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8,…,1} &amp; x &lt;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|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1,…,10} &amp; x &gt;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&lt; 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y}|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3,1,7,3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+6|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1,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(x,8)|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1,2,7} &amp; x &gt; 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y|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1,2}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…,3} &amp; x = 2 * 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 = 7|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1,…,10} &amp; x &lt; 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C8B-4B78-4D27-A134-AC198AA1D8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ub-sequenc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8120" y="144576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 subsequence of a sequence L is a sequence formed from consecutive elements of L; from index n1 up to and including index n2. It has th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L(n1, ..., 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here n1 and n2 are integer expres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Quick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[5,4,3,7,8,2](2,…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[5,4,3,7,8,2](-6,…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[5,4,3,7,8,2](2,…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[5,4,3,7,8,2](6,…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7D5-0E37-4AC8-8818-C90B89DF6E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Characteristics and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gestion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BB1-A323-4770-BB50-8F5DA9E76E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he Congestion Warning System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for warning drivers of upcoming congestion on highways with lower speed limits to reduce the likelihood of coll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379080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745-2468-4AAA-B252-E4468F0A15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Characteristics and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Congestion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A4B-4878-48E2-915F-E43EED5A5B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he Main CWS Compon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ns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se are used to derive status information about the traffic. Sensors include video cameras, radar and human obser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ffic Contr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is interpret the data coming from sensors and take appropriate 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u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se are used to signal to the drivers about potential congestions. Here traffic signs will be used but different technologies could be envisag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018-0F01-4E97-96A8-8BFDDC92A3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Overview of the CWS System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66880" y="1616040"/>
            <a:ext cx="741024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53F-D115-4FAB-9E91-38767A2A2C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UML Class Diagram for CW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7560" y="1889280"/>
            <a:ext cx="859644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1DF-9B46-4238-9EB9-2DE5E6CC56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Journey Pla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8320" y="1495080"/>
            <a:ext cx="8366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adNetwork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ongestionMonitor := [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sors    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PassageSensor := [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oadNetwork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ensor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m: ActuatorManager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ActuatorManager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: OperatorControl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peratorControl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Courier New"/>
              </a:rPr>
              <a:t>Location =</a:t>
            </a: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 na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2200" spc="-1" strike="noStrike">
                <a:solidFill>
                  <a:srgbClr val="000000"/>
                </a:solidFill>
                <a:latin typeface="Courier New"/>
              </a:rPr>
              <a:t> C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EE0-4E0C-4B7D-9F48-D393C788AC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Multiple Assignment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48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omehow need to updat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ad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ns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 variables synchronously to ensure the invar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DM++ Constru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549-A3BC-4278-ADDF-1B21532946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Eurostile ExtendedTwo"/>
              </a:rPr>
              <a:t>The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ddCongestionMonitor</a:t>
            </a:r>
            <a:r>
              <a:rPr b="0" lang="da-DK" sz="2000" spc="-1" strike="noStrike">
                <a:solidFill>
                  <a:srgbClr val="000000"/>
                </a:solidFill>
                <a:latin typeface="Eurostile ExtendedTwo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720" y="1231560"/>
            <a:ext cx="846792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CongestionMonitor: Location ==&gt;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CongestionMonitor(loc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so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ssageSensor(lo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m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ngestionMonitor(loc, sensor, am, 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berOfWarners = len road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adNetwork := roadNetwork(1,...,loc) ^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cm] ^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adNetwork(loc+1,...,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OfWarners)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nsors := sensors(1,...,loc) ^ [sensor] ^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nsors(loc+1,...,numberOfWar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m.AddActuator(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28F-8A7A-42F9-B9FD-82278EF1A6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17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Different kinds of Senso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7800" y="1278000"/>
            <a:ext cx="6726240" cy="51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FEC-CEC9-430A-B5D1-5C0D343DCA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nsors and PassageSenso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7800" y="1599840"/>
            <a:ext cx="822492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cation: CWS`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ssageSens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subclass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ag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WS`Speed :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ssageSensor: CWS`Location ==&gt; Passage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ageSensor(loc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ation := lo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ssage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2A5-1A7E-420C-8790-7AE4C78F2F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Finding the Average Speed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7000" y="1420560"/>
            <a:ext cx="8235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PassageSensor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 is subclass of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AverageSpeed: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nat1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==&gt; CWS`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verageSpeed(numberOfPassages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dcl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accSpeed: CWS`Speed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assInAccount = passages(1,...,numberOfPa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speed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assInAccount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ccSpeed := accSpeed + spe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(accSpeed/numberOfPa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re l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assages &gt;= numberOfPa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Passage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B46-0D98-4AA0-B861-F1AF1F84DB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he Congestion Senso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2760" y="1495440"/>
            <a:ext cx="820908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gestionSens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s subclass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ngestionStatus = &lt;Congestion&gt;|&lt;NoCongestion&gt;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oub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ngestionSensor: PassageSensor ==&gt; Congestion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gestionSensor(sensor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ssageSensor := sen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sueCongestionStatus: () ==&gt; Congestion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ueCongestionStatus() =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verageSpeed = passageSensor.AverageSpeed(noPass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verageSpeed &lt; congestion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Conges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verageSpeed &gt; noCongestion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NoConges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Doub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ongestion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E49-44EE-45B7-9B3D-9454BB3DD5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quence Characteristic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471680"/>
            <a:ext cx="8172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ar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d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ons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can b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y cop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themselves can be arbitrary complex, e.g. they can be sequenc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in VDM++ are 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types in VDM++ are writte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ype (for non-empty sequen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B9F-E1FE-435D-BFA3-2D7FCC1020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8440" y="1258920"/>
            <a:ext cx="4687920" cy="5160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ctuator Structur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2" name=""/>
          <p:cNvSpPr/>
          <p:nvPr/>
        </p:nvSpPr>
        <p:spPr>
          <a:xfrm>
            <a:off x="5608440" y="5046840"/>
            <a:ext cx="272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s: seq of Act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60240" y="3276720"/>
            <a:ext cx="688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ignal = &lt;NoWarning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eAnnouncement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gestionWarning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5D8-148C-43D7-B097-5228AF0EA4F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how Signal in Actuation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1319040"/>
            <a:ext cx="821052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tuation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howSignal: CWS`Location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gestionMonitor`Signal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owSignal(location, signal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wnstream = as(location + 1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tuator   = as(location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stream   = as(location -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Set the right signal at the loc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howSignalAtLoc(signal,downstream,actuat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Set the right signal up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owSignalUpstream(signal,upstre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oca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2,...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 -1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ignal = &lt;NoWarning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nal = &lt;CongestionWarning&gt;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Actuation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A12-1B6C-4102-9F15-F2BC7CC763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how Signal at a given Lo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2760" y="1269720"/>
            <a:ext cx="8209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tuation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howSignalAtLoc: CongestionMonitor`Signal * Actuator 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ctuator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howSignalAtLoc(signal,downstream,actuator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signal = &lt;NoWarn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downstreamsignal = downstream.GetSignal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downstreamsignal = &lt;CongestionWarn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actuator.SetSignal(&lt;PreAnnouncement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actuator.SetSignal(&lt;NoWarning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lse de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urrentsignal = actuator.GetSignal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safest = MostRestrictive(currentsig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ig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ctuator.SetSignal(safes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Actuation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5C7-4D8A-4A46-A83D-4461ACAE0F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Most Restrictive Signal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uation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tRestrictive: CongestionMonitor`Signal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Monitor`Signal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Monitor`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tRestrictive(s1, s2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1 = &lt;CongestionWarning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2 = &lt;CongestionWarn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CongestionWarn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1 = &lt;PreAnnouncement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2 = &lt;PreAnnounc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PreAnnounc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NoWarn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Actuation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927-9139-4058-A908-63B836464D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dding and Replacing Actuato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5360" y="1306440"/>
            <a:ext cx="8379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uation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Actuator: CWS`Location ==&gt;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Actuator(loc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uato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:= as(1,...,loc) ^ [act] ^ as(loc+1,..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placeActuator: CWS`Location ==&gt;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aceActuator(loc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uato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:= as ++ {loc |-&gt; a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tuation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539-FB9E-48D8-803A-0CBE07E768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Operator Control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Operator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messageLog: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seq of seq1 of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char := [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locations :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CWS`Location := [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inv len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messageLog =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Operator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9C9-5ABC-4A68-804B-76568FBBC8F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Manipulating Log Messag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5720" y="1287000"/>
            <a:ext cx="819648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Operator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ResetLog: ()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ResetLog(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at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messageLog := [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ocations :=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WriteLog: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char * CWS`Location ==&gt;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WriteLog(message, location)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at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(messageLog := messageLog ^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[message ^ ConvertNum2String(location)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ocations := locations ^ [loca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Operator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65920" y="1755720"/>
            <a:ext cx="2320920" cy="2178000"/>
          </a:xfrm>
          <a:prstGeom prst="wedgeEllipseCallout">
            <a:avLst>
              <a:gd name="adj1" fmla="val -200819"/>
              <a:gd name="adj2" fmla="val 51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Notice that WriteLog has an error in the book. This is the right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58D-1A65-4DA1-8B53-A513C0328A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Operator Utiliti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5016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Operator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CongestionSpots: () ==&gt;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CWS`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ngestionSpots(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turn elem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loc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nvertLog2File: () ==&gt;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nvertLog2File(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turn conc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essage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Operator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608-7B83-461F-A390-4D81FD1C21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I presented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otion of sequences as ordered col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sic operations in VDM++ for manipulating 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gestion warning system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 with your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 your status to all of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chapter 8 before next l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EF2-10AA-45EE-800F-06C84953B5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Quote of the da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32" name=""/>
          <p:cNvSpPr/>
          <p:nvPr/>
        </p:nvSpPr>
        <p:spPr>
          <a:xfrm>
            <a:off x="4473720" y="3757680"/>
            <a:ext cx="4784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By Sir Francis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1848 - 19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0" y="15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5320" y="1395360"/>
            <a:ext cx="826956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cience the credit goes to the man who convinces the world, not the man to whom the idea first occurs.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2600" y="2633760"/>
            <a:ext cx="273348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D6F-4320-4010-BBB2-58F03827250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quence Enumer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7400" y="1366560"/>
            <a:ext cx="82756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enumeration consists of a comma-separated list enclosed between square brackets, ”[…]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,5,8,1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true, fals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}, {4,3},{2,4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‘g’,’o’,’d’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3.567, 0.33455,7,7,7,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ty sequence can be written as “[ ]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401-D422-4D22-8B8F-94E8273949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Length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360" y="1342800"/>
            <a:ext cx="817236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ngth of a sequence is the number of elements in the sequence i.e. its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ccurrences of the same value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ngth of a sequence L is written as “ len 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1,2,3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3,2,3,2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60A-8A4E-4199-B4AD-09E1DD2FBE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quence Equalit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341360"/>
            <a:ext cx="82501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quences are equal if both have the same length and for all indices in the sequences the respective index values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,4,1,2] = [4,1,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,1,1,1,1,1,1,1,1,1,1,1] =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{3,4,5},{4}] = [{3,5,4},{4,4,4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F4C-1E3F-4954-B160-1B094A6451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Head and Tail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7400" y="1368000"/>
            <a:ext cx="8275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 non-empty sequence can be divided into its head (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hd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) and its tail (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tl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head of a sequence is the first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tail of a sequence is the rest of th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5],[6,1],[4,4,4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5],[6,1],[4,4,4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DA5-A1E4-4F29-BF57-2E1D4A5B7B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El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8320" y="1495080"/>
            <a:ext cx="8366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extract the elements of a sequence using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a sequence an yield a set of its elements (i.e. destroying the ordering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1,2,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3],[2,3],[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2852640"/>
            <a:ext cx="7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82E-030C-478A-BE7F-BB33EEDA46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equence Indic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8720" y="1495080"/>
            <a:ext cx="840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get hold of the indices for a sequence us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DM++ indexing starts wi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1,2,21,6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{ }, {true}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[3,2],[3],[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D47-346F-4A3E-BF7C-A616430B25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6:40:18Z</dcterms:created>
  <dc:creator>Peter Gorm Larsen</dc:creator>
  <dc:description/>
  <dc:language>en-US</dc:language>
  <cp:lastModifiedBy>Peter Gorm Larsen</cp:lastModifiedBy>
  <dcterms:modified xsi:type="dcterms:W3CDTF">2006-05-11T06:57:49Z</dcterms:modified>
  <cp:revision>8</cp:revision>
  <dc:subject/>
  <dc:title>Modelling ordered coll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