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17EB-C880-427C-AA0A-E36526ADA68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first one yields true whereas the second one yields fa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C3EF-A56E-4D8C-8ABC-75CA94ED1ED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rall p in set People &amp; LikesDanishPastry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rall p in set People &amp; LikesDanishPastry(p) or IsVegetarian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(forall p in set People &amp; LikesDanishPastry(p)) or (forall p in set People &amp; IsVegetarian(p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No the last two statements are not equi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9369-E478-46B3-861E-5C7A5C82A28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exists p in set People &amp; LikesDanishPastry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exists p in set People &amp; LikesDanishPastry(p) or IsVegetarian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(exists p in set People &amp; LikesDanishPastry(p)) or (exists p in set People &amp; IsVegetarian(p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Yes the two last statements are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AC3C-D4E1-4D63-AC76-35AB596E75B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No semantically there is a difference between these two expressions: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 :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(x,y) and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 :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(x,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In that case the semantics would be differ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BB04-3937-40A8-95F1-C8326B31714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phants are g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nimals that are elephants are g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ts a bird which has wings but cannot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(x=Joanne)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acher(x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kes(x, chocola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(x=teacher)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kes(x, chocola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2F8-AB66-4D03-B583-8FC43D63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401472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365-15D9-4344-AB66-31D504A4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556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FFE-B270-4EC4-8A11-5D1FE4D6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720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51480" y="159984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720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51480" y="4014720"/>
            <a:ext cx="25275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ACF-66EA-412C-AB30-2BF05AFC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7DB-9968-477A-9DF4-5429FFA1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6BB-9953-471C-915F-639EBAE3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1E2-7061-46D4-AE10-66256A21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FA2-81C9-4385-B223-06845F7F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2064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12E-4C4F-43AF-B5DA-52BE5B79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CAB-C16D-4D1F-99ED-78EDDC52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5560" y="401472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A47-354E-4070-BC6A-6072DB4E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5560" y="1599840"/>
            <a:ext cx="38307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4014720"/>
            <a:ext cx="7850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0F5-8FAF-4D48-835B-1A9A6A19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2880" y="1239840"/>
            <a:ext cx="8601120" cy="5207040"/>
          </a:xfrm>
          <a:prstGeom prst="rect">
            <a:avLst/>
          </a:prstGeom>
          <a:solidFill>
            <a:srgbClr val="d5d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06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Eurostile ExtendedTwo"/>
              </a:rPr>
              <a:t>TIVD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06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Eurostile ExtendedTwo"/>
              </a:rPr>
              <a:t>VDMTools and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06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000000"/>
                </a:solidFill>
                <a:latin typeface="Eurostile ExtendedTw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FFDD-F016-4CF3-825C-3A76DB6F86DF}" type="slidenum">
              <a:rPr b="0" lang="da-DK" sz="1000" spc="-1" strike="noStrike">
                <a:solidFill>
                  <a:srgbClr val="000000"/>
                </a:solidFill>
                <a:latin typeface="Eurostile ExtendedTw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36000" y="231840"/>
            <a:ext cx="1742760" cy="92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ome0.inet.tele.dk/pgl/vdm91.pdf" TargetMode="External"/><Relationship Id="rId2" Type="http://schemas.openxmlformats.org/officeDocument/2006/relationships/hyperlink" Target="http://home0.inet.tele.dk/pgl/sigplan.pdf" TargetMode="External"/><Relationship Id="rId3" Type="http://schemas.openxmlformats.org/officeDocument/2006/relationships/hyperlink" Target="http://www.jucs.org/jucs_7_8/ten_years_of_historical;internal&amp;action=noaction&amp;Parameter=1134461764489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33cc"/>
                </a:solidFill>
                <a:latin typeface="Eurostile ExtendedTwo"/>
              </a:rPr>
              <a:t>VDMTools and Logic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eter Gorm Lar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DA5-949C-466D-80F2-223820B788A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Further Inform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 Executable Subset of Meta-IV with Loose Specificatio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.G. Larsen, P.B. Lassen, VDM '91: Formal Software Development Methods,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IFAD VDM-SL Toolbox: A Practical Approach to Formal Specifications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. Elmstrøm, P.G. Larsen, P.B. Lassen, ACM Sigplan Notices, September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mputer-aided Validation of Formal Specification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. Mukherjee, Software Engineering Journal, July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en Years of Historical Development -  ”Bootstrapping” VDMToo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P.G. Larsen, Journal of Universal Computer Science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028-0B73-477C-9948-4031953D8D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VDMTools</a:t>
            </a:r>
            <a:r>
              <a:rPr b="0" lang="en-US" sz="1600" spc="-1" strike="noStrike" baseline="7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of VDMTools</a:t>
            </a:r>
            <a:r>
              <a:rPr b="0" lang="en-US" sz="1600" spc="-1" strike="noStrike" baseline="7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ational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 t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E13-0BDB-46C3-8571-05CC88C97E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VDMTools</a:t>
            </a:r>
            <a:r>
              <a:rPr b="0" lang="en-US" sz="1600" spc="-1" strike="noStrike" baseline="7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of VDMTools</a:t>
            </a:r>
            <a:r>
              <a:rPr b="0" lang="en-US" sz="1600" spc="-1" strike="noStrike" baseline="7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ational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2ED-0DFB-4026-A398-C713EF1F04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92080" y="644040"/>
            <a:ext cx="755352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Logic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62" name=""/>
          <p:cNvSpPr/>
          <p:nvPr/>
        </p:nvSpPr>
        <p:spPr>
          <a:xfrm>
            <a:off x="544680" y="1336680"/>
            <a:ext cx="835164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ur ability to state invariants, record pre-conditions and post-conditions, and the ability to reason about a formal model depend on the logic on which the modelling language is ba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ical logical propositions and pre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ACB-CF79-4469-9915-5B29FB35520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A temperature monitor example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666880" y="1371600"/>
            <a:ext cx="4038840" cy="1676520"/>
            <a:chOff x="2666880" y="1371600"/>
            <a:chExt cx="4038840" cy="1676520"/>
          </a:xfrm>
        </p:grpSpPr>
        <p:sp>
          <p:nvSpPr>
            <p:cNvPr id="165" name=""/>
            <p:cNvSpPr/>
            <p:nvPr/>
          </p:nvSpPr>
          <p:spPr>
            <a:xfrm>
              <a:off x="2666880" y="137160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6880" y="3048120"/>
              <a:ext cx="403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04812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2286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1905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16765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13372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25146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2895480"/>
            <a:ext cx="3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32004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32004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2004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32004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32004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32004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32004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32004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32004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90560" y="3046320"/>
            <a:ext cx="152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666880" y="2133720"/>
            <a:ext cx="3812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29000" y="1904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190512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2133720"/>
            <a:ext cx="3808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26668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2895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334120" y="26665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371600"/>
            <a:ext cx="2286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Temperature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3200400"/>
            <a:ext cx="213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Time 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40" y="4038480"/>
            <a:ext cx="3952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The monitor records the last five temperature rea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616280" y="4089240"/>
            <a:ext cx="3795480" cy="534600"/>
            <a:chOff x="4616280" y="4089240"/>
            <a:chExt cx="3795480" cy="534600"/>
          </a:xfrm>
        </p:grpSpPr>
        <p:sp>
          <p:nvSpPr>
            <p:cNvPr id="205" name=""/>
            <p:cNvSpPr/>
            <p:nvPr/>
          </p:nvSpPr>
          <p:spPr>
            <a:xfrm>
              <a:off x="4616280" y="4095720"/>
              <a:ext cx="3795480" cy="52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71920" y="40892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33680" y="40892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5800" y="40892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57920" y="40892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86120" y="41655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Palatino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33880" y="416556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Palatino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72120" y="41655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Palatino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10000" y="41655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Palatino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47880" y="416556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Palatino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004-061E-44D9-A73B-0C0B90215B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7800" y="866520"/>
            <a:ext cx="7553520" cy="2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A temperature monitor example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376280"/>
            <a:ext cx="82742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conditions are to be detected by the mon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sing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last reading in the sample is greater than the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 limit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reading in the sample in excess of 400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inually over limit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e readings in the sample exceed 400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f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 readings do not exceed 400 C by the middle of the sample, the reactor is safe. If readings exceed 400 C by the middle of the sample, the reactor is still safe provided that the reading at the end of the sample is less than 400 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arm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alarm is to be raised if and only if the reactor is not 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0B8-06CF-4F80-A283-0F802DBB25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Predicates and Proposit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554120"/>
            <a:ext cx="769608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Predicat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re simply logical expressions. The simplest kind of logical predicate is a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pro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proposi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s a logical assertion about a particular value or values, usually involving a Boolean operator to compare the values, e.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 &lt; 27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DEA-A20E-47C9-85F5-6BA97E9FFE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 ExtendedTwo"/>
              </a:rPr>
              <a:t>Predicates</a:t>
            </a:r>
            <a:endParaRPr b="0" lang="en-US" sz="28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295280"/>
            <a:ext cx="76960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edicate is a logical expression that is not specific to particular values but contains variables which can stand for one of a range of possible values, e.g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 &lt;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x**2) + x -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uth or falsehood of a predicate depends on the value taken by the variables.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3A2-9666-4857-8DF6-746C3D8407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69600" y="415440"/>
            <a:ext cx="792468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Predicates</a:t>
            </a:r>
            <a:r>
              <a:rPr b="1" lang="en-GB" sz="2400" spc="-1" strike="noStrike">
                <a:solidFill>
                  <a:srgbClr val="000000"/>
                </a:solidFill>
                <a:latin typeface="Eurostile ExtendedTw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in the monito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371600"/>
            <a:ext cx="48769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nitor :: temps :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q of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arm :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m ==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m.temps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2844720"/>
            <a:ext cx="791712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ider a moni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a sequence so we can index into 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rst reading in</a:t>
            </a: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st reading in</a:t>
            </a: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dicate stating that the first reading in m is strictly less than the last read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ruth of the predicate depends on the value of</a:t>
            </a: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97160" y="3759120"/>
            <a:ext cx="170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m.temps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22720" y="4270320"/>
            <a:ext cx="170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m.temps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44920" y="5514840"/>
            <a:ext cx="368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m.temps(1) &lt; m.temps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330-2DB6-4EF0-AB2E-CD245F0C57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The rising condi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28" name=""/>
          <p:cNvSpPr/>
          <p:nvPr/>
        </p:nvSpPr>
        <p:spPr>
          <a:xfrm>
            <a:off x="644400" y="123336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reading in the sample is greater than the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1739880"/>
            <a:ext cx="449568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nitor :: temps 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q of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arm 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m ==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m.temps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8954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 can express the rising condition as a Boolean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3505320"/>
            <a:ext cx="6629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ising: Monitor -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ising(m) == m.temps(1) &lt; m.temp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4419720"/>
            <a:ext cx="7763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 any monitor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the expressio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ising(m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evaluates to true iff the last reading in the sample in m is higher than the first, 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52578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ising(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Monitor([233,45,677,650,900],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7280" y="572616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ising(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k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Monitor([23,45,67,50,20],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596-8BDE-4A8F-9969-EB9DB0FA5C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VDMTools</a:t>
            </a:r>
            <a:r>
              <a:rPr b="0" lang="en-US" sz="1600" spc="-1" strike="noStrike" baseline="7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emonstration of VDMTools</a:t>
            </a:r>
            <a:r>
              <a:rPr b="0" lang="en-US" sz="1600" spc="-1" strike="noStrike" baseline="7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and Rational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 t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84E-4C7F-4537-8F8F-4C6E20973C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4720" y="641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Logical Operators (Connectives)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39440" y="1374840"/>
            <a:ext cx="7947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examine the following logical op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jun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if – th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onditiona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if and only 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th tables can be used to show how these operators can combine propositions to compound pro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02F-41CF-4CEC-83F1-5BE28B274A2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Neg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1387440"/>
            <a:ext cx="761976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gation allows us to state that the opposite of some logical expression is true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temperature in the monitor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on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is not ri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Rising(m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93880" y="3962520"/>
            <a:ext cx="3751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uth table for neg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848120" y="4102200"/>
          <a:ext cx="2448000" cy="173340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</a:tblGrid>
              <a:tr h="57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0FE-82D4-4EB5-822A-D8BEEF70F8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Disjunc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42" name=""/>
          <p:cNvSpPr/>
          <p:nvPr/>
        </p:nvSpPr>
        <p:spPr>
          <a:xfrm>
            <a:off x="749160" y="1347840"/>
            <a:ext cx="784872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junction allows us to express alternatives that are not necessarily exclus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Over limit: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There is a reading in the sample in excess of 400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verLimit: Monitor -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verLimit(m) =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.temps(1) &gt; 400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.temps(2) &gt; 400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.temps(3) &gt; 400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.temps(4) &gt; 400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.temps(5) &gt;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416480" y="4200480"/>
          <a:ext cx="4476600" cy="2035080"/>
        </p:xfrm>
        <a:graphic>
          <a:graphicData uri="http://schemas.openxmlformats.org/drawingml/2006/table">
            <a:tbl>
              <a:tblPr/>
              <a:tblGrid>
                <a:gridCol w="1492200"/>
                <a:gridCol w="1491840"/>
                <a:gridCol w="149256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329-4A94-45B1-BC53-44398647545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Conjunc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322280"/>
            <a:ext cx="825012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junction allows us to express the fact that all of a collection of facts are tr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Continually over limit: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 all the readings in the sample exceed 4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832120"/>
            <a:ext cx="6172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verLimit: Monitor -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verLimit(m) =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.temps(1) &gt; 400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.temps(2) &gt; 400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.temps(3) &gt; 400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.temps(4) &gt; 400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.temps(5) &gt;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467240" y="4049640"/>
          <a:ext cx="4501800" cy="2323800"/>
        </p:xfrm>
        <a:graphic>
          <a:graphicData uri="http://schemas.openxmlformats.org/drawingml/2006/table">
            <a:tbl>
              <a:tblPr/>
              <a:tblGrid>
                <a:gridCol w="1501200"/>
                <a:gridCol w="1499400"/>
                <a:gridCol w="1501200"/>
              </a:tblGrid>
              <a:tr h="464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194-D2FD-47D2-B6F6-6D97FA66CAE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Implic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1244520"/>
            <a:ext cx="769608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lication allows us to express facts which are only true under certain conditions (“if … then …”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afe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readings do not exceed 400 C by the middle of the sample, the reactor is safe. If readings exceed 400 C by the middle of the sample, the reactor is still safe provided that the reading at the end of the sample is less than 400 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8800" y="3778200"/>
            <a:ext cx="617220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afe: Monitor -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afe(m)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.temps(3) &gt; 400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.temps(5) &lt;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357880" y="4086360"/>
          <a:ext cx="3535200" cy="2136600"/>
        </p:xfrm>
        <a:graphic>
          <a:graphicData uri="http://schemas.openxmlformats.org/drawingml/2006/table">
            <a:tbl>
              <a:tblPr/>
              <a:tblGrid>
                <a:gridCol w="1178280"/>
                <a:gridCol w="1178280"/>
                <a:gridCol w="117864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847-37CA-4C0D-AE1C-86011DC79C4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Biimplic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10666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960" y="1297080"/>
            <a:ext cx="84200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iimplication allows us to express equivalence (“if and only if”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larm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e alarm is to be raised if and only if the reactor is not 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160" y="2840040"/>
            <a:ext cx="655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can be recorded as an invariant proper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97040" y="3618000"/>
            <a:ext cx="589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nitor :: temps 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q of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arm 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m =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m.temps = 5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afe(m.temps) &lt;=&gt; m.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240160" y="4152960"/>
          <a:ext cx="3741840" cy="1976400"/>
        </p:xfrm>
        <a:graphic>
          <a:graphicData uri="http://schemas.openxmlformats.org/drawingml/2006/table">
            <a:tbl>
              <a:tblPr/>
              <a:tblGrid>
                <a:gridCol w="1246320"/>
                <a:gridCol w="1249560"/>
                <a:gridCol w="124596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572-3F4D-4844-99B6-4A78FD88B7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Operator Precedence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Associativit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0720" y="152208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the highest prece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=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at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right grouping i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=&gt; B =&gt; 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out brackets m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=&gt; (B =&gt; 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logical operators are associative so right and left grouping are equivalent, i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and (B and C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identical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 and B) and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C92-7321-4E04-A444-59CB2208AA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Quantifier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1414440"/>
            <a:ext cx="7772400" cy="23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large collections of values, using a variable makes more sense than dealing with each case separate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d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m.temps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s indices (1-5) of the 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“over limit” condition can then be expressed more economically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d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m.temp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temps(i) &gt;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49160" y="3983040"/>
            <a:ext cx="8043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“continually over limit” condition can then be expressed using “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17560" y="4756320"/>
            <a:ext cx="748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OverLimit: Monitor -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OverLimit(m) =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m.temp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temps(i) &gt;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C23-4F9B-4562-BD1C-0CECDC7F65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Quantifier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1270080"/>
            <a:ext cx="784836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binding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pre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binding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pre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2590920"/>
            <a:ext cx="4952880" cy="31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are two types of bin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ype Bind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e.g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 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 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q of 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t Bind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e.g.</a:t>
            </a: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{1,…,2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2895480"/>
            <a:ext cx="2895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A type binding lets the bound variable range over a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 (a possibly infinite collection of valu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4635360"/>
            <a:ext cx="28954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A set binding lets the bound variable range over a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finite set of values.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36E-EB7C-46D9-903F-58781EF8FC0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Universal quantific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08120" y="144576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quant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generalised form of con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he statement “every natural number is greater than or equal to zero” is deno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turned-round “A”, “for All” and written as 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in ASC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rawn from the natural numb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greater than or equal to zer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tatement is equivalent to (and a lot more succinct tha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132-C24F-4AC3-BBC9-94B9D04A43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26040" y="2959200"/>
            <a:ext cx="101124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VDMTools</a:t>
            </a:r>
            <a:r>
              <a:rPr b="0" lang="en-US" sz="1600" spc="-1" strike="noStrike" baseline="70000">
                <a:solidFill>
                  <a:srgbClr val="000000"/>
                </a:solidFill>
                <a:latin typeface="Eurostile ExtendedTwo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  Overview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42840" y="3132000"/>
            <a:ext cx="2357640" cy="1008000"/>
            <a:chOff x="942840" y="3132000"/>
            <a:chExt cx="2357640" cy="1008000"/>
          </a:xfrm>
        </p:grpSpPr>
        <p:sp>
          <p:nvSpPr>
            <p:cNvPr id="57" name=""/>
            <p:cNvSpPr/>
            <p:nvPr/>
          </p:nvSpPr>
          <p:spPr>
            <a:xfrm>
              <a:off x="1016280" y="3223800"/>
              <a:ext cx="2284200" cy="9162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42840" y="3132000"/>
              <a:ext cx="2283840" cy="916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bbe0e3"/>
                  </a:solidFill>
                  <a:latin typeface="Arial"/>
                </a:rPr>
                <a:t>The Rose-VDM++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942840" y="4522680"/>
            <a:ext cx="2357640" cy="1009440"/>
            <a:chOff x="942840" y="4522680"/>
            <a:chExt cx="2357640" cy="1009440"/>
          </a:xfrm>
        </p:grpSpPr>
        <p:sp>
          <p:nvSpPr>
            <p:cNvPr id="60" name=""/>
            <p:cNvSpPr/>
            <p:nvPr/>
          </p:nvSpPr>
          <p:spPr>
            <a:xfrm>
              <a:off x="1016280" y="4614480"/>
              <a:ext cx="2284200" cy="917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42840" y="4522680"/>
              <a:ext cx="2283840" cy="9180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bbe0e3"/>
                  </a:solidFill>
                  <a:latin typeface="Arial"/>
                </a:rPr>
                <a:t>Document Gene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575160" y="4976640"/>
            <a:ext cx="2356920" cy="1008000"/>
            <a:chOff x="3575160" y="4976640"/>
            <a:chExt cx="2356920" cy="1008000"/>
          </a:xfrm>
        </p:grpSpPr>
        <p:sp>
          <p:nvSpPr>
            <p:cNvPr id="63" name=""/>
            <p:cNvSpPr/>
            <p:nvPr/>
          </p:nvSpPr>
          <p:spPr>
            <a:xfrm>
              <a:off x="3648240" y="5068440"/>
              <a:ext cx="2283840" cy="9162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5160" y="4976640"/>
              <a:ext cx="2283480" cy="916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bbe0e3"/>
                  </a:solidFill>
                  <a:latin typeface="Arial"/>
                </a:rPr>
                <a:t>Code Generators</a:t>
              </a:r>
              <a:br>
                <a:rPr sz="1400"/>
              </a:br>
              <a:r>
                <a:rPr b="1" lang="en-US" sz="1400" spc="-1" strike="noStrike">
                  <a:solidFill>
                    <a:srgbClr val="bbe0e3"/>
                  </a:solidFill>
                  <a:latin typeface="Arial"/>
                </a:rPr>
                <a:t>- C++, 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575160" y="1413000"/>
            <a:ext cx="2356920" cy="1007280"/>
            <a:chOff x="3575160" y="1413000"/>
            <a:chExt cx="2356920" cy="1007280"/>
          </a:xfrm>
        </p:grpSpPr>
        <p:sp>
          <p:nvSpPr>
            <p:cNvPr id="66" name=""/>
            <p:cNvSpPr/>
            <p:nvPr/>
          </p:nvSpPr>
          <p:spPr>
            <a:xfrm>
              <a:off x="3648240" y="1504440"/>
              <a:ext cx="2283840" cy="9158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5160" y="1413000"/>
              <a:ext cx="2283480" cy="916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bbe0e3"/>
                  </a:solidFill>
                  <a:latin typeface="Arial"/>
                </a:rPr>
                <a:t>Syntax &amp; Type Check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207120" y="4471920"/>
            <a:ext cx="2355480" cy="1009440"/>
            <a:chOff x="6207120" y="4471920"/>
            <a:chExt cx="2355480" cy="1009440"/>
          </a:xfrm>
        </p:grpSpPr>
        <p:sp>
          <p:nvSpPr>
            <p:cNvPr id="69" name=""/>
            <p:cNvSpPr/>
            <p:nvPr/>
          </p:nvSpPr>
          <p:spPr>
            <a:xfrm>
              <a:off x="6280200" y="4563720"/>
              <a:ext cx="2282400" cy="917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07120" y="4471920"/>
              <a:ext cx="2282040" cy="9180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bbe0e3"/>
                  </a:solidFill>
                  <a:latin typeface="Arial"/>
                </a:rPr>
                <a:t>API (Corba), DL Fac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07120" y="3051000"/>
            <a:ext cx="2355480" cy="1008000"/>
            <a:chOff x="6207120" y="3051000"/>
            <a:chExt cx="2355480" cy="1008000"/>
          </a:xfrm>
        </p:grpSpPr>
        <p:sp>
          <p:nvSpPr>
            <p:cNvPr id="72" name=""/>
            <p:cNvSpPr/>
            <p:nvPr/>
          </p:nvSpPr>
          <p:spPr>
            <a:xfrm>
              <a:off x="6280200" y="3142800"/>
              <a:ext cx="2282400" cy="9162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07120" y="3051000"/>
              <a:ext cx="2282040" cy="916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bbe0e3"/>
                  </a:solidFill>
                  <a:latin typeface="Arial"/>
                </a:rPr>
                <a:t>Interpreter (Debugg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 flipV="1">
            <a:off x="4683240" y="2488680"/>
            <a:ext cx="0" cy="40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683240" y="4438800"/>
            <a:ext cx="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366720" y="4102200"/>
            <a:ext cx="76212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307120" y="2616120"/>
            <a:ext cx="761760" cy="6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67080" y="2824200"/>
            <a:ext cx="76212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07120" y="4102200"/>
            <a:ext cx="76176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207120" y="1700280"/>
            <a:ext cx="2355480" cy="1007280"/>
            <a:chOff x="6207120" y="1700280"/>
            <a:chExt cx="2355480" cy="1007280"/>
          </a:xfrm>
        </p:grpSpPr>
        <p:sp>
          <p:nvSpPr>
            <p:cNvPr id="81" name=""/>
            <p:cNvSpPr/>
            <p:nvPr/>
          </p:nvSpPr>
          <p:spPr>
            <a:xfrm>
              <a:off x="6280200" y="1791720"/>
              <a:ext cx="2282400" cy="9158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07120" y="1700280"/>
              <a:ext cx="2282040" cy="916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bbe0e3"/>
                  </a:solidFill>
                  <a:latin typeface="Arial"/>
                </a:rPr>
                <a:t>Integrity Check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307120" y="36561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60480" y="1763640"/>
            <a:ext cx="2356920" cy="1007280"/>
            <a:chOff x="960480" y="1763640"/>
            <a:chExt cx="2356920" cy="1007280"/>
          </a:xfrm>
        </p:grpSpPr>
        <p:sp>
          <p:nvSpPr>
            <p:cNvPr id="85" name=""/>
            <p:cNvSpPr/>
            <p:nvPr/>
          </p:nvSpPr>
          <p:spPr>
            <a:xfrm>
              <a:off x="1033560" y="1855080"/>
              <a:ext cx="2283840" cy="9158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60480" y="1763640"/>
              <a:ext cx="2283480" cy="916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bbe0e3"/>
                  </a:solidFill>
                  <a:latin typeface="Arial"/>
                </a:rPr>
                <a:t>Java to VDM+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284640" y="36813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06800" y="2935440"/>
            <a:ext cx="1446120" cy="144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664-DF27-4309-BC59-456B6DC262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4800" y="1290240"/>
            <a:ext cx="82630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te the following statements using predicate log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body likes Danish pa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body either likes Danish pastry or is a veget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ther everybody likes Danish pastry or everybody is a veget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the last two statements equival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D29-F72A-4A07-BE10-FC9A9FBFA5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Existential quantification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0720" y="134100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xistential quant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lows us to assert that a predicate holds for at least one valu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not necessarily all valu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a give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he statement “there is a natural number that is greater than or equal to zero” is deno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 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turned-round “E”, “there Exists” and written as 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in ASC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exists 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rawn from the natural numbers such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greater than or equal to zer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B61-D245-4006-9BFD-4B7A051BC39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8120" y="1599840"/>
            <a:ext cx="8094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te the following statements using predicate log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body likes Danish pa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somebody who either likes Danish pastry or is a veget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ther somebody likes Danish pastry or somebody is a veget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the last two statements equival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C1E-1247-4B81-96AA-D35BA90694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Quantifier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1320840"/>
            <a:ext cx="8056440" cy="15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veral variables may be bound at once by a single quantifier, 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x,y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1,…,5}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 &lt;&gt; y =&gt; not m.temps(x) = m.temps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3048120"/>
            <a:ext cx="819612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ould this predicate be true for the following value of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.temp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[320, 220, 105, 119, 15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3C6-2DAD-41B9-BF96-0C64EED61FE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Formulation Quest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81" name=""/>
          <p:cNvSpPr/>
          <p:nvPr/>
        </p:nvSpPr>
        <p:spPr>
          <a:xfrm>
            <a:off x="620640" y="1539720"/>
            <a:ext cx="8305920" cy="36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22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All the readings in the sample are less than 400 and greater than 5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Each reading in the sample is up to 10 greater than its predecess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There are two distinct readings in the sample which are over 4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440" y="2405160"/>
            <a:ext cx="60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m.temps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m.temps(i) &lt; 400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m.temps(i) &gt;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00" y="3898800"/>
            <a:ext cx="59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m.temps\{1}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m.temps(i – 1) &gt;= m.temps(i) + 1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0480" y="5315040"/>
            <a:ext cx="78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i,j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m.temps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i &lt;&gt; j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m.temps(i) &gt; 400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m.temps(j) &gt;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FBD-D2CD-467B-876F-513DB05F9CA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Combination of quantifier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8120" y="15602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we have a predicate with two free variables P(x,y) where x : X and y :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quantifiers can be combi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(x,y)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(x,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these be equal if X, Y are int and P = x &gt;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if the same quantifier was used both places the expressions would be equival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(x,y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(x,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(x,y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(x,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D67-F0F9-4B3B-B5D9-FF8404AB748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Quantifiers</a:t>
            </a: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88" name=""/>
          <p:cNvSpPr/>
          <p:nvPr/>
        </p:nvSpPr>
        <p:spPr>
          <a:xfrm>
            <a:off x="646200" y="1362240"/>
            <a:ext cx="784836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se we have to formalise the following proper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There is a “single minimum” in the sequence of readings, i.e. there is a reading which is strictly smaller than any of the other readings.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4638600"/>
            <a:ext cx="7238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se the order of the quantifiers is rever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12880" y="2989440"/>
            <a:ext cx="73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m.temps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j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in set inds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m.temps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i &lt;&gt; j =&gt; m.temps(i) &lt; m.temps(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994-3D5B-4773-87B2-D3E505933D1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44400" y="1315800"/>
            <a:ext cx="8499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he following into Engli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:Elephant &amp; grey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:ANIMAL &amp; elephant(x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ey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 : ANIMAL &amp; bird(x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s-wings(x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lies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the following using predicate logic formula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anne is a teacher, she teaches AI, and likes chocolat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teachers do not like chocolat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FD2-0936-432E-ADA3-A041811C04B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495080"/>
            <a:ext cx="8610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I presented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 to VDMTools</a:t>
            </a:r>
            <a:r>
              <a:rPr b="0" lang="en-US" sz="1500" spc="-1" strike="noStrike" baseline="70000">
                <a:solidFill>
                  <a:srgbClr val="000000"/>
                </a:solidFill>
                <a:latin typeface="Arial"/>
              </a:rPr>
              <a:t>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ion of VDMTools</a:t>
            </a:r>
            <a:r>
              <a:rPr b="0" lang="en-US" sz="1500" spc="-1" strike="noStrike" baseline="7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R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 to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eed to do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 chapter 4 and 5 of the book for next we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playing with the combination of VDMTools and R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 existing material about the selected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te a new requirements definition for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upon the purpose of the model to devel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presentation about this for the rest of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503-8CD2-4050-BAD9-E2E69E7232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Eurostile ExtendedTwo"/>
              </a:rPr>
              <a:t>Quote of the day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ccessful construction of all machinery depends on the perfection of the tools employed, and whoever is the master in the art of tool-making possesses the key to the construction of all mach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les Babbage, 18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547560" y="3705120"/>
            <a:ext cx="2239920" cy="27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0AA-16E0-49B4-95F3-B8EACDF998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47760" y="1484280"/>
            <a:ext cx="6959520" cy="4400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urostile ExtendedTwo"/>
              </a:rPr>
              <a:t>Japanese Support via Unicode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6600" y="1282680"/>
            <a:ext cx="7700760" cy="508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3E6-B76A-48A4-87D4-15FEDFAC56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Validation with VDMTools</a:t>
            </a:r>
            <a:r>
              <a:rPr b="0" lang="en-US" sz="1600" spc="-1" strike="noStrike" baseline="70000">
                <a:solidFill>
                  <a:srgbClr val="000000"/>
                </a:solidFill>
                <a:latin typeface="Eurostile ExtendedTwo"/>
              </a:rPr>
              <a:t>®</a:t>
            </a:r>
            <a:endParaRPr b="0" lang="en-US" sz="16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93" name=""/>
          <p:cNvSpPr/>
          <p:nvPr/>
        </p:nvSpPr>
        <p:spPr>
          <a:xfrm>
            <a:off x="849240" y="2133720"/>
            <a:ext cx="762120" cy="1008000"/>
          </a:xfrm>
          <a:prstGeom prst="flowChartMultidocument">
            <a:avLst/>
          </a:prstGeom>
          <a:solidFill>
            <a:srgbClr val="66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6120" y="1676520"/>
            <a:ext cx="13824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M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5080" y="4327560"/>
            <a:ext cx="762120" cy="100944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280" y="5410080"/>
            <a:ext cx="13309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4327560"/>
            <a:ext cx="761760" cy="100944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72400" y="5413320"/>
            <a:ext cx="199224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ed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46960" y="2133720"/>
            <a:ext cx="761760" cy="1008000"/>
          </a:xfrm>
          <a:prstGeom prst="flowChartMultidocument">
            <a:avLst/>
          </a:prstGeom>
          <a:solidFill>
            <a:srgbClr val="66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83920" y="1730520"/>
            <a:ext cx="16750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5480" y="3208320"/>
            <a:ext cx="0" cy="1009800"/>
          </a:xfrm>
          <a:prstGeom prst="line">
            <a:avLst/>
          </a:prstGeom>
          <a:ln w="5724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66360" y="3505320"/>
            <a:ext cx="14983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81200" y="3006720"/>
            <a:ext cx="1800360" cy="403200"/>
          </a:xfrm>
          <a:prstGeom prst="line">
            <a:avLst/>
          </a:prstGeom>
          <a:ln w="572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81200" y="3948120"/>
            <a:ext cx="1800360" cy="403200"/>
          </a:xfrm>
          <a:prstGeom prst="line">
            <a:avLst/>
          </a:prstGeom>
          <a:ln w="572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81480" y="3075120"/>
            <a:ext cx="1279800" cy="403200"/>
          </a:xfrm>
          <a:prstGeom prst="line">
            <a:avLst/>
          </a:prstGeom>
          <a:ln w="572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09920" y="4552920"/>
            <a:ext cx="12574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51120" y="3127320"/>
            <a:ext cx="1279800" cy="12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367-6B10-47EB-8E5C-3194099AB7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6880" y="1865160"/>
            <a:ext cx="5356080" cy="4184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3680" y="644400"/>
            <a:ext cx="7035840" cy="454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Documentation in MS Word/RTF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10" name=""/>
          <p:cNvSpPr/>
          <p:nvPr/>
        </p:nvSpPr>
        <p:spPr>
          <a:xfrm>
            <a:off x="5369040" y="1484280"/>
            <a:ext cx="3394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e compound documen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21360" y="2475000"/>
            <a:ext cx="288144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307800" indent="-307800">
              <a:lnSpc>
                <a:spcPct val="1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st cover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st coverage statis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787640" y="2779200"/>
            <a:ext cx="1338120" cy="255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635000" y="3160440"/>
            <a:ext cx="1490760" cy="2206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197240" y="3524040"/>
            <a:ext cx="1928880" cy="360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177800" y="4389480"/>
            <a:ext cx="1947960" cy="801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134-757C-4967-B8F6-3FADD72E8C6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4520" y="698400"/>
            <a:ext cx="6746760" cy="60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 ExtendedTwo"/>
              </a:rPr>
              <a:t>Architecture of the Rose VDM++ Link</a:t>
            </a:r>
            <a:endParaRPr b="0" lang="en-US" sz="20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17" name=""/>
          <p:cNvSpPr/>
          <p:nvPr/>
        </p:nvSpPr>
        <p:spPr>
          <a:xfrm>
            <a:off x="982800" y="2219400"/>
            <a:ext cx="1595160" cy="2487600"/>
          </a:xfrm>
          <a:custGeom>
            <a:avLst/>
            <a:gdLst>
              <a:gd name="textAreaLeft" fmla="*/ 77760 w 1595160"/>
              <a:gd name="textAreaRight" fmla="*/ 1517400 w 1595160"/>
              <a:gd name="textAreaTop" fmla="*/ 77760 h 2487600"/>
              <a:gd name="textAreaBottom" fmla="*/ 2409840 h 2487600"/>
            </a:gdLst>
            <a:ahLst/>
            <a:rect l="textAreaLeft" t="textAreaTop" r="textAreaRight" b="textAreaBottom"/>
            <a:pathLst>
              <a:path w="21600" h="33682">
                <a:moveTo>
                  <a:pt x="3600" y="0"/>
                </a:moveTo>
                <a:arcTo wR="3600" hR="3600" stAng="16200000" swAng="-5400000"/>
                <a:lnTo>
                  <a:pt x="0" y="30082"/>
                </a:lnTo>
                <a:arcTo wR="3600" hR="3600" stAng="10800000" swAng="-5400000"/>
                <a:lnTo>
                  <a:pt x="18000" y="33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40240" y="2219400"/>
            <a:ext cx="1592280" cy="2487600"/>
          </a:xfrm>
          <a:custGeom>
            <a:avLst/>
            <a:gdLst>
              <a:gd name="textAreaLeft" fmla="*/ 77400 w 1592280"/>
              <a:gd name="textAreaRight" fmla="*/ 1514880 w 1592280"/>
              <a:gd name="textAreaTop" fmla="*/ 77400 h 2487600"/>
              <a:gd name="textAreaBottom" fmla="*/ 2410200 h 2487600"/>
            </a:gdLst>
            <a:ahLst/>
            <a:rect l="textAreaLeft" t="textAreaTop" r="textAreaRight" b="textAreaBottom"/>
            <a:pathLst>
              <a:path w="21600" h="33743">
                <a:moveTo>
                  <a:pt x="3600" y="0"/>
                </a:moveTo>
                <a:arcTo wR="3600" hR="3600" stAng="16200000" swAng="-5400000"/>
                <a:lnTo>
                  <a:pt x="0" y="30143"/>
                </a:lnTo>
                <a:arcTo wR="3600" hR="3600" stAng="10800000" swAng="-5400000"/>
                <a:lnTo>
                  <a:pt x="18000" y="33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7720" y="1847880"/>
            <a:ext cx="1696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DM++ Tool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7480" y="1862280"/>
            <a:ext cx="2022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onal Rose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22480" y="3564000"/>
            <a:ext cx="1317600" cy="941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77040" y="3564000"/>
            <a:ext cx="1315800" cy="941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54400" y="3765600"/>
            <a:ext cx="1457280" cy="67140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rge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0240" y="6022800"/>
            <a:ext cx="119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DM++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77040" y="2421000"/>
            <a:ext cx="1315800" cy="941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 rot="16200000">
            <a:off x="2516040" y="2795760"/>
            <a:ext cx="1236600" cy="170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81" y="58"/>
                </a:moveTo>
                <a:arcTo wR="10800" hR="10800" stAng="-5756725" swAng="10145643"/>
                <a:lnTo>
                  <a:pt x="10800" y="10800"/>
                </a:lnTo>
                <a:close/>
              </a:path>
              <a:path fill="none" w="21600" h="21600">
                <a:moveTo>
                  <a:pt x="9681" y="58"/>
                </a:moveTo>
                <a:arcTo wR="10800" hR="10800" stAng="-5756725" swAng="10145643"/>
              </a:path>
            </a:pathLst>
          </a:custGeom>
          <a:noFill/>
          <a:ln w="5724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rot="16200000">
            <a:off x="2480040" y="3577680"/>
            <a:ext cx="1345680" cy="176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04" y="1392"/>
                </a:moveTo>
                <a:arcTo wR="10800" hR="10800" stAng="-3635302" swAng="8687013"/>
                <a:lnTo>
                  <a:pt x="10800" y="10800"/>
                </a:lnTo>
                <a:close/>
              </a:path>
              <a:path fill="none" w="21600" h="21600">
                <a:moveTo>
                  <a:pt x="16104" y="1392"/>
                </a:moveTo>
                <a:arcTo wR="10800" hR="10800" stAng="-3635302" swAng="8687013"/>
              </a:path>
            </a:pathLst>
          </a:custGeom>
          <a:noFill/>
          <a:ln w="5724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218480" y="3576240"/>
            <a:ext cx="1345680" cy="176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26" y="1643"/>
                </a:moveTo>
                <a:arcTo wR="10800" hR="10800" stAng="-3478792" swAng="8530503"/>
                <a:lnTo>
                  <a:pt x="10800" y="10800"/>
                </a:lnTo>
                <a:close/>
              </a:path>
              <a:path fill="none" w="21600" h="21600">
                <a:moveTo>
                  <a:pt x="16526" y="1643"/>
                </a:moveTo>
                <a:arcTo wR="10800" hR="10800" stAng="-3478792" swAng="8530503"/>
              </a:path>
            </a:pathLst>
          </a:custGeom>
          <a:noFill/>
          <a:ln w="5724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 rot="5400000">
            <a:off x="4218840" y="2795760"/>
            <a:ext cx="1239120" cy="169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81" y="58"/>
                </a:moveTo>
                <a:arcTo wR="10800" hR="10800" stAng="-5756725" swAng="10111122"/>
                <a:lnTo>
                  <a:pt x="10800" y="10800"/>
                </a:lnTo>
                <a:close/>
              </a:path>
              <a:path fill="none" w="21600" h="21600">
                <a:moveTo>
                  <a:pt x="9681" y="58"/>
                </a:moveTo>
                <a:arcTo wR="10800" hR="10800" stAng="-5756725" swAng="10111122"/>
              </a:path>
            </a:pathLst>
          </a:custGeom>
          <a:noFill/>
          <a:ln w="5724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22440" y="5095800"/>
            <a:ext cx="623520" cy="874440"/>
            <a:chOff x="1522440" y="5095800"/>
            <a:chExt cx="623520" cy="874440"/>
          </a:xfrm>
        </p:grpSpPr>
        <p:sp>
          <p:nvSpPr>
            <p:cNvPr id="131" name=""/>
            <p:cNvSpPr/>
            <p:nvPr/>
          </p:nvSpPr>
          <p:spPr>
            <a:xfrm>
              <a:off x="1661040" y="5230080"/>
              <a:ext cx="484920" cy="74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91560" y="5162760"/>
              <a:ext cx="485280" cy="74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2440" y="5095800"/>
              <a:ext cx="485280" cy="74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91560" y="5230080"/>
              <a:ext cx="34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91560" y="5297400"/>
              <a:ext cx="277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91560" y="5364720"/>
              <a:ext cx="34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91560" y="5432040"/>
              <a:ext cx="1382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91560" y="5566680"/>
              <a:ext cx="277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91560" y="5634000"/>
              <a:ext cx="207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826400" y="3765600"/>
            <a:ext cx="48744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96240" y="3898800"/>
            <a:ext cx="3459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96240" y="396720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96240" y="4033800"/>
            <a:ext cx="3459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96240" y="4102200"/>
            <a:ext cx="138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96240" y="423540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96240" y="4303800"/>
            <a:ext cx="2095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800360" y="4571640"/>
            <a:ext cx="0" cy="469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6560" y="4033800"/>
            <a:ext cx="903240" cy="0"/>
          </a:xfrm>
          <a:prstGeom prst="line">
            <a:avLst/>
          </a:prstGeom>
          <a:ln w="5724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13760" y="4707000"/>
            <a:ext cx="1074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L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rot="16200000">
            <a:off x="1019880" y="2567520"/>
            <a:ext cx="2259000" cy="378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06" y="12839"/>
                </a:moveTo>
                <a:arcTo wR="10800" hR="10800" stAng="652807" swAng="4398905"/>
                <a:lnTo>
                  <a:pt x="10800" y="10800"/>
                </a:lnTo>
                <a:close/>
              </a:path>
              <a:path fill="none" w="21600" h="21600">
                <a:moveTo>
                  <a:pt x="21406" y="12839"/>
                </a:moveTo>
                <a:arcTo wR="10800" hR="10800" stAng="652807" swAng="4398905"/>
              </a:path>
            </a:pathLst>
          </a:custGeom>
          <a:noFill/>
          <a:ln w="5724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2D3-7261-4699-B329-9B278935FE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Integrity checker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1520" y="1316160"/>
            <a:ext cx="7670520" cy="507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477-787F-4C04-8EDE-0ABE1093B5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 ExtendedTwo"/>
              </a:rPr>
              <a:t>Reference Material</a:t>
            </a:r>
            <a:endParaRPr b="0" lang="en-US" sz="2400" spc="-1" strike="noStrike">
              <a:solidFill>
                <a:srgbClr val="000000"/>
              </a:solidFill>
              <a:latin typeface="Eurostile ExtendedTw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7850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VDM++ Language for VICE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K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VDM++ User Manual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K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VDM++ Installation Guide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K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onal Rose Link Plug-in Installation and User Guide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K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HA præ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E87-682F-4198-AE43-F738144C68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5:09:48Z</dcterms:created>
  <dc:creator>Peter Gorm Larsen</dc:creator>
  <dc:description/>
  <dc:language>en-US</dc:language>
  <cp:lastModifiedBy>Peter Gorm Larsen</cp:lastModifiedBy>
  <dcterms:modified xsi:type="dcterms:W3CDTF">2006-04-20T09:11:50Z</dcterms:modified>
  <cp:revision>8</cp:revision>
  <dc:subject/>
  <dc:title>VDMTools and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