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12FE-84C2-46BD-86F9-95DBE1946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42920" y="1599840"/>
            <a:ext cx="785016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42920" y="4014720"/>
            <a:ext cx="785016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E0BB-8810-4774-828A-6819916FA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42920" y="1599840"/>
            <a:ext cx="383076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5560" y="1599840"/>
            <a:ext cx="383076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42920" y="4014720"/>
            <a:ext cx="383076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5560" y="4014720"/>
            <a:ext cx="383076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ABB4-0F3E-4845-A8A7-29E75A6F2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42920" y="1599840"/>
            <a:ext cx="252756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97200" y="1599840"/>
            <a:ext cx="252756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51480" y="1599840"/>
            <a:ext cx="252756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42920" y="4014720"/>
            <a:ext cx="252756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97200" y="4014720"/>
            <a:ext cx="252756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51480" y="4014720"/>
            <a:ext cx="252756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4B73-2EBC-4FD2-B911-DF77C1EE9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42920" y="1599840"/>
            <a:ext cx="7850160" cy="46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D81E-49B0-4FCC-AE2B-173553E98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42920" y="1599840"/>
            <a:ext cx="785016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FBCC-FC47-4081-AF18-38ADD6305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42920" y="1599840"/>
            <a:ext cx="383076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5560" y="1599840"/>
            <a:ext cx="383076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6A5F-3C0F-4AE2-BDFD-C47B96A63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E4D6-25CB-4E2C-88D0-683B9BDF1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620640"/>
            <a:ext cx="8229600" cy="39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282A-A0EE-4B14-8879-CEA15F36B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42920" y="1599840"/>
            <a:ext cx="383076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5560" y="1599840"/>
            <a:ext cx="383076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42920" y="4014720"/>
            <a:ext cx="383076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32E6-66D0-4873-87AB-D6FAB0AD7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42920" y="1599840"/>
            <a:ext cx="383076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5560" y="1599840"/>
            <a:ext cx="383076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5560" y="4014720"/>
            <a:ext cx="383076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C8D8-9D79-4768-AEB2-31D22F0FB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42920" y="1599840"/>
            <a:ext cx="383076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5560" y="1599840"/>
            <a:ext cx="383076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42920" y="4014720"/>
            <a:ext cx="785016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35BB-7AAB-47FE-AF79-F0A25E21E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42880" y="1239840"/>
            <a:ext cx="8601120" cy="5207040"/>
          </a:xfrm>
          <a:prstGeom prst="rect">
            <a:avLst/>
          </a:prstGeom>
          <a:solidFill>
            <a:srgbClr val="d5d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42920" y="1599840"/>
            <a:ext cx="785016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406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Eurostile ExtendedTw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Eurostile ExtendedTwo"/>
              </a:rPr>
              <a:t>TIVD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406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000" spc="-1" strike="noStrike">
                <a:solidFill>
                  <a:srgbClr val="000000"/>
                </a:solidFill>
                <a:latin typeface="Eurostile ExtendedTw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Eurostile ExtendedTwo"/>
              </a:rPr>
              <a:t>Model Qua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406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000" spc="-1" strike="noStrike">
                <a:solidFill>
                  <a:srgbClr val="000000"/>
                </a:solidFill>
                <a:latin typeface="Eurostile ExtendedTw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C1816-58C7-4DB2-8CA4-CADF4F3E92AA}" type="slidenum">
              <a:rPr b="0" lang="da-DK" sz="1000" spc="-1" strike="noStrike">
                <a:solidFill>
                  <a:srgbClr val="000000"/>
                </a:solidFill>
                <a:latin typeface="Eurostile ExtendedTw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urostile ExtendedTwo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236000" y="231840"/>
            <a:ext cx="1742760" cy="920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916280"/>
            <a:ext cx="777240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Eurostile ExtendedTwo"/>
              </a:rPr>
              <a:t>Model Quality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Peter Gorm Lar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54FE-3BED-4E05-9355-A3A26BCE31AF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Eurostile ExtendedTwo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46120" y="1587240"/>
            <a:ext cx="785016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ternal Consistenc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xternal Consistenc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6872-44B6-4DBD-A6A4-B79B31C8D72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Eurostile ExtendedTwo"/>
              </a:rPr>
              <a:t>Dialogue with Domain Experts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16040" y="1599840"/>
            <a:ext cx="688176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Typically domain experts know little about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Understanding their intended usage may be a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Creating a model will create further questions to expe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Model should seldomly been shown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Scenarios to be used for test purposes can typically be discu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A CORBA-based API can be used to ”demonstrate” ideas to domain experts/end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653240" y="1700280"/>
            <a:ext cx="1457280" cy="39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9D4B-090E-4B9C-86EE-4E87478482E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39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Eurostile ExtendedTwo"/>
              </a:rPr>
              <a:t>Syntax, type check and Execute </a:t>
            </a:r>
            <a:br>
              <a:rPr sz="2400"/>
            </a:br>
            <a:r>
              <a:rPr b="0" lang="da-DK" sz="2400" spc="-1" strike="noStrike">
                <a:solidFill>
                  <a:srgbClr val="000000"/>
                </a:solidFill>
                <a:latin typeface="Eurostile ExtendedTwo"/>
              </a:rPr>
              <a:t>using API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68320" y="1338120"/>
            <a:ext cx="78501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Arial"/>
              </a:rPr>
              <a:t>Example model to u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da-DK" sz="2400" spc="-1" strike="noStrike">
                <a:solidFill>
                  <a:srgbClr val="000000"/>
                </a:solidFill>
                <a:latin typeface="Courier New"/>
              </a:rPr>
              <a:t>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da-DK" sz="2400" spc="-1" strike="noStrike">
                <a:solidFill>
                  <a:srgbClr val="000000"/>
                </a:solidFill>
                <a:latin typeface="Courier New"/>
              </a:rPr>
              <a:t> op: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da-DK" sz="2400" spc="-1" strike="noStrike">
                <a:solidFill>
                  <a:srgbClr val="000000"/>
                </a:solidFill>
                <a:latin typeface="Courier New"/>
              </a:rPr>
              <a:t> ==&gt;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ourier New"/>
              </a:rPr>
              <a:t>op(n) =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da-DK" sz="2400" spc="-1" strike="noStrike">
                <a:solidFill>
                  <a:srgbClr val="000000"/>
                </a:solidFill>
                <a:latin typeface="Courier New"/>
              </a:rPr>
              <a:t> n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pre</a:t>
            </a:r>
            <a:r>
              <a:rPr b="0" lang="da-DK" sz="2400" spc="-1" strike="noStrike">
                <a:solidFill>
                  <a:srgbClr val="000000"/>
                </a:solidFill>
                <a:latin typeface="Courier New"/>
              </a:rPr>
              <a:t> n &g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da-DK" sz="2400" spc="-1" strike="noStrike">
                <a:solidFill>
                  <a:srgbClr val="000000"/>
                </a:solidFill>
                <a:latin typeface="Courier New"/>
              </a:rPr>
              <a:t>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B248-F1F8-42A3-BF2B-27596179B07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Eurostile ExtendedTwo"/>
              </a:rPr>
              <a:t>The CORBA API for VDMTools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7680" y="1294920"/>
            <a:ext cx="8405640" cy="50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oolboxCli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hall be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VDMAppl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 must be casted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DM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Java this would look lik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ToolboxClient toolboxClient = </a:t>
            </a:r>
            <a:r>
              <a:rPr b="1" lang="da-DK" sz="20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 ToolboxClien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org.omg.CORBA.Object obj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toolboxClient.getVDMApplication(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                             </a:t>
            </a:r>
            <a:r>
              <a:rPr b="1" lang="da-DK" sz="20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 String[]{}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                             </a:t>
            </a: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ToolType.PP_TOOLBOX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app = VDMApplicationHelper.narrow(obj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Additional initializ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client = app.Register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app.PushTag(clien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7083-45C4-4CB5-99D4-AE4A47A2C10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44748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Eurostile ExtendedTwo"/>
              </a:rPr>
              <a:t>Interacting with the API:</a:t>
            </a:r>
            <a:br>
              <a:rPr sz="2400"/>
            </a:br>
            <a:r>
              <a:rPr b="0" lang="da-DK" sz="2400" spc="-1" strike="noStrike">
                <a:solidFill>
                  <a:srgbClr val="000000"/>
                </a:solidFill>
                <a:latin typeface="Eurostile ExtendedTwo"/>
              </a:rPr>
              <a:t>Syntax and Type Checking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80840" y="1371240"/>
            <a:ext cx="811188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VDMProject prj = app.GetProjec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prj.New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String path = "/local/vdm++book/validation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String[] modelFiles = {"A.vpp"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VDMParser parser = app.GetParse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a-DK" sz="18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da-DK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 i = 0; i &lt; modelFiles.length; i++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String filename = path + "/" + modelFiles[i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prj.AddFile(filenam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parser.Parse(filenam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ourier New"/>
              </a:rPr>
              <a:t>private void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 typeCheck() </a:t>
            </a:r>
            <a:r>
              <a:rPr b="1" lang="da-DK" sz="1800" spc="-1" strike="noStrike">
                <a:solidFill>
                  <a:srgbClr val="000000"/>
                </a:solidFill>
                <a:latin typeface="Courier New"/>
              </a:rPr>
              <a:t>throws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 APIError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ModuleListHolder moduleList = </a:t>
            </a:r>
            <a:r>
              <a:rPr b="1" lang="da-DK" sz="18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 ModuleListHolde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app.GetProject().GetModules(moduleLis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app.GetTypeChecker().TypeCheckList(moduleList.valu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73E4-C684-47D4-A458-958F7C78122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651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Eurostile ExtendedTwo"/>
              </a:rPr>
              <a:t>Interacting with the API: </a:t>
            </a:r>
            <a:br>
              <a:rPr sz="2400"/>
            </a:br>
            <a:r>
              <a:rPr b="0" lang="da-DK" sz="2400" spc="-1" strike="noStrike">
                <a:solidFill>
                  <a:srgbClr val="000000"/>
                </a:solidFill>
                <a:latin typeface="Eurostile ExtendedTwo"/>
              </a:rPr>
              <a:t>Execution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42920" y="1599840"/>
            <a:ext cx="785016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VDMInterpreter interp = app.GetInterprete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interp.Initialize 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interp.EvalCmd("create a := new A()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a-DK" sz="18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VDMFactory fact     = app.GetVDMFactory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VDMSequence args    = fact.MkSequence(clien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VDMNumeric intValue = fact.MkNumeric(client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args.ImpAppend(intValu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VDMGeneric result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interp.Apply(client, "a.op", arg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System.out.println("Result is " + result.ToAscii(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da-DK" sz="18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 (APIError e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System.err.println("Unable to validate model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2BB9-16EF-4A4A-8FE8-D1633F2A117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Eurostile ExtendedTwo"/>
              </a:rPr>
              <a:t>Validating POP3 using the API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724040" y="1382760"/>
            <a:ext cx="6010200" cy="498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9552-A107-4A4D-9A11-5C6ED3C9403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Eurostile ExtendedTwo"/>
              </a:rPr>
              <a:t>Class Diagram for API GUI Layer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587600" y="1346040"/>
            <a:ext cx="5999040" cy="5010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C2D0-8AF8-4BBF-91B7-0A9229F10F8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Eurostile ExtendedTwo"/>
              </a:rPr>
              <a:t>Interacting with One Client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49160" y="1371240"/>
            <a:ext cx="785016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op3APILay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d a number of fiel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DMApplication ap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This is a CORBA reference to the running VDMTools inst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DMInterpreter inter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This is a CORBA reference to the interpreter in the instance of the VDMTools to whic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p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f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hort cli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The identifier number allocated by the VDMTools to this cli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TextArea logAre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A reference to a Java swing text area object, used to show the dialogue between the client and VDMToo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 channe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The name of the channel that will be used within the interpreter for communication with the serv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9A8D-9971-4976-A152-6F1E8330176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Eurostile ExtendedTwo"/>
              </a:rPr>
              <a:t>Initializing the Interpreter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42920" y="1599840"/>
            <a:ext cx="785016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ourier New"/>
              </a:rPr>
              <a:t>private void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 initInterpreter() </a:t>
            </a:r>
            <a:r>
              <a:rPr b="1" lang="da-DK" sz="1800" spc="-1" strike="noStrike">
                <a:solidFill>
                  <a:srgbClr val="000000"/>
                </a:solidFill>
                <a:latin typeface="Courier New"/>
              </a:rPr>
              <a:t>throws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 APIErr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// Ensure echoing in interpr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interp.Verbose(</a:t>
            </a:r>
            <a:r>
              <a:rPr b="1" lang="da-DK" sz="18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// Enable precondition checking during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interp.DynPreCheck(</a:t>
            </a:r>
            <a:r>
              <a:rPr b="1" lang="da-DK" sz="18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interp.Initialize 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EvalCmd("create ch := new MessageChannelBuffer()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EvalCmd("create pt := new POP3Test()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EvalCmd("create server := " 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"new POP3Server(pt.MakeMailDrop(), " 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"ch,pt.MakePasswordMap())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EvalCmd("debug pt.StartServer(server)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7963-9BE6-423C-AA7F-4F1070387F4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Eurostile ExtendedTwo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46120" y="1587240"/>
            <a:ext cx="785016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8080"/>
                </a:solidFill>
                <a:latin typeface="Arial"/>
              </a:rPr>
              <a:t>Internal Consistenc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8080"/>
                </a:solidFill>
                <a:latin typeface="Arial"/>
              </a:rPr>
              <a:t>External Consistenc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D571-3318-4209-88F0-D118FB19584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8708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Eurostile ExtendedTwo"/>
              </a:rPr>
              <a:t>Interaction between </a:t>
            </a:r>
            <a:br>
              <a:rPr sz="2400"/>
            </a:br>
            <a:r>
              <a:rPr b="0" lang="da-DK" sz="2400" spc="-1" strike="noStrike">
                <a:solidFill>
                  <a:srgbClr val="000000"/>
                </a:solidFill>
                <a:latin typeface="Eurostile ExtendedTwo"/>
              </a:rPr>
              <a:t>Client and Server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17400" y="1316160"/>
            <a:ext cx="8275680" cy="50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400" spc="-1" strike="noStrike">
                <a:solidFill>
                  <a:srgbClr val="000000"/>
                </a:solidFill>
                <a:latin typeface="Courier New"/>
              </a:rPr>
              <a:t>public boolean</a:t>
            </a: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 openServerConnection(String username,String password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                                    </a:t>
            </a: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StringBuffer response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a-DK" sz="14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EvalCmd("create " + channel + " := new MessageChannel()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EvalCmd("debug ch.Put(" + channel + ")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a-DK" sz="14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 status = executeCommand("USER"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new String[]{"\""+username+"\""}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respons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a-DK" sz="1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 (!statu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a-DK" sz="14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status = executeCommand("PASS"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da-DK" sz="14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 String[]{"\""+password+"\""}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respons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a-DK" sz="14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 stat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da-DK" sz="14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 (Exception e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e.printStackTrace(System.er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a-DK" sz="14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BA23-D37B-4E4A-AF6B-40091201310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Eurostile ExtendedTwo"/>
              </a:rPr>
              <a:t>Executing Commands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5160" y="1599840"/>
            <a:ext cx="819792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ourier New"/>
              </a:rPr>
              <a:t>private boolean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 executeCommand(String titl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String[] arg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StringBuffer respon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String command = makeCommand(title, arg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a-DK" sz="18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VDMRecord responseObj = sendCommandResponse(comman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boolean status = checkResponse(responseObj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response.append(responseObj.GetField(1).ToAscii(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a-DK" sz="18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 statu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da-DK" sz="18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 (Exception e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System.err.println("executeCommand: " + e.toString(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a-DK" sz="18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DD6C-ECC7-404C-8CE5-CCE2E383AD4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Eurostile ExtendedTwo"/>
              </a:rPr>
              <a:t>Constructing a Command Record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16040" y="1427040"/>
            <a:ext cx="8177040" cy="47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 String makeCommand(String cmd, String[] arg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StringBuffer command = </a:t>
            </a:r>
            <a:r>
              <a:rPr b="1" lang="da-DK" sz="18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 StringBuffe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command.append("mk_POP3Types`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command.append(cm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command.append("(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a-DK" sz="18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da-DK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 index = 0; index &lt; args.length; index++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command.append(args[index]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if (index != args.length-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command.append(",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command.append(")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a-DK" sz="18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 command.toString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5547-3D45-4B7F-9257-C80AC4A4F53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Eurostile ExtendedTwo"/>
              </a:rPr>
              <a:t>Send Command Responses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16040" y="1479600"/>
            <a:ext cx="8177040" cy="47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VDMRecord sendCommandResponse(String command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VDMRecord responseRecord = </a:t>
            </a:r>
            <a:r>
              <a:rPr b="1" lang="da-DK" sz="16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a-DK" sz="16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EvalCmd("debug " + channel + ".ClientSend(" +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command + ")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VDMFactory fact     = app.GetVDMFactory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VDMSequence args    = fact.MkSequence(client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VDMGeneric response = interp.Apply(client,channel+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                                        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".ClientListen"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                                        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args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responseRecord = VDMRecordHelper.narrow(respons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da-DK" sz="16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(APIError e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System.out.println("sendCommandResponse: " +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e.msg.toString(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a-DK" sz="16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responseRecor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7759-C2C9-4B57-9113-670F6C6FE45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urostile ExtendedTwo"/>
              </a:rPr>
              <a:t>Checking Responses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42920" y="1599840"/>
            <a:ext cx="785016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a-DK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 checkResponse(VDMRecord respon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a-DK" sz="20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Log("response is " + response.ToAscii(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a-DK" sz="20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 response.GetTag().equals(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"POP3Types`OkResponse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da-DK" sz="20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 (APIError e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System.err.println(e.toString(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a-DK" sz="20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F595-BBF1-4626-B1D1-5C253FE6C24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Eurostile ExtendedTwo"/>
              </a:rPr>
              <a:t>Interacting with Multiple Clients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42920" y="1599840"/>
            <a:ext cx="785016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challen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bjects created by a client for a single POP3 session need to be unique for that client: otherwise it would be possible for one client to interfere with another client's se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the very first client that registers with the tool set should load the specification and initialise the interpreter; otherwise a client's session could be prematurely terminated by another client reinitializing the interpreter in the middle of that se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1 can be solved b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ourier New"/>
              </a:rPr>
              <a:t>channel = "mc" + String.valueOf(client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55A2-F10C-44E4-A69E-031EB092B74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Eurostile ExtendedTwo"/>
              </a:rPr>
              <a:t>Updating the Pop3ApiLayer Constructor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93720" y="1382400"/>
            <a:ext cx="8199360" cy="50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4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 Pop3ApiLayer(JTextArea logArea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a-DK" sz="14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this.logArea = logAre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ToolboxClient toolboxClient = </a:t>
            </a:r>
            <a:r>
              <a:rPr b="1" lang="da-DK" sz="14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 ToolboxClien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app = toolboxClien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getVDMApplication(</a:t>
            </a:r>
            <a:r>
              <a:rPr b="1" lang="da-DK" sz="14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 String[]{}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                            </a:t>
            </a: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ToolType.PP_TOOLBOX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client = app.Registe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channel = "mc" + String.valueOf(clien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app.PushTag(clien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interp = app.GetInterprete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a-DK" sz="1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 (!isInitialized()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loadSpecifica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typeCheck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initInterprete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da-DK" sz="14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 (Exception e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e.printStackTrace(System.er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System.err.println(e.toString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176E-F703-47AA-A856-0D0F5B3997A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ourier New"/>
              </a:rPr>
              <a:t>isInitialized</a:t>
            </a:r>
            <a:r>
              <a:rPr b="0" lang="da-DK" sz="2400" spc="-1" strike="noStrike">
                <a:solidFill>
                  <a:srgbClr val="000000"/>
                </a:solidFill>
                <a:latin typeface="Eurostile ExtendedTwo"/>
              </a:rPr>
              <a:t> Definition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52240" y="1599840"/>
            <a:ext cx="859140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00"/>
                </a:solidFill>
                <a:latin typeface="Courier New"/>
              </a:rPr>
              <a:t>private boolean</a:t>
            </a: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 isInitialized() </a:t>
            </a:r>
            <a:r>
              <a:rPr b="1" lang="da-DK" sz="2000" spc="-1" strike="noStrike">
                <a:solidFill>
                  <a:srgbClr val="000000"/>
                </a:solidFill>
                <a:latin typeface="Courier New"/>
              </a:rPr>
              <a:t>throws</a:t>
            </a: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 APIErr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VDMProject prj = app.GetProjec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ModuleListHolder moduleList = </a:t>
            </a:r>
            <a:r>
              <a:rPr b="1" lang="da-DK" sz="20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 ModuleListHolder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prj.GetModules(moduleLis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a-DK" sz="20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 moduleList.value.length !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6EEA-D9E3-4A2F-A312-F50202E9B61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Eurostile ExtendedTwo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42920" y="1599840"/>
            <a:ext cx="785016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have I presented toda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essing model qu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nal consiste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ernal consistenc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need to do n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d chapter 1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te your projec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ess the models consiste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you know CORBA already you may use the API on your pro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sent your status to all of 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BFCA-54ED-4465-A041-F3D6C6B7478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Eurostile ExtendedTwo"/>
              </a:rPr>
              <a:t>Quote of the day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102" name=""/>
          <p:cNvSpPr/>
          <p:nvPr/>
        </p:nvSpPr>
        <p:spPr>
          <a:xfrm>
            <a:off x="4410000" y="3720960"/>
            <a:ext cx="5905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Bertrand Me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74800" y="1585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70000" y="1395360"/>
            <a:ext cx="7148520" cy="13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l specifications may become for software engineers what, say, differential equations are for engineers of other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C644-7D0D-4614-9335-AA1277F9161D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Eurostile ExtendedTwo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42920" y="1599840"/>
            <a:ext cx="785016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What is now the value of the models you have produc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we assess the quality of a mode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l consistenc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es the model describe something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ntax, type checking and proof oblig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potential run-time err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rnal consistenc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es the model describe the right thing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idation with domain expe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es the model have desirable propertie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2BC5-A81B-443A-AF81-88F6C459F9B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Eurostile ExtendedTwo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46120" y="1587240"/>
            <a:ext cx="785016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ternal Consistenc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8080"/>
                </a:solidFill>
                <a:latin typeface="Arial"/>
              </a:rPr>
              <a:t>External Consistenc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7305-5D18-4CF7-837F-310AF68A873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71600"/>
            <a:ext cx="8229600" cy="89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urostile ExtendedTwo"/>
              </a:rPr>
              <a:t>POP3: Protection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Eurostile ExtendedTwo"/>
              </a:rPr>
              <a:t>Partial Operators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26840" y="1294920"/>
            <a:ext cx="8165880" cy="5187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POP3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tance vari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aildrop      : MailDro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y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MailDrop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POP3Types`UserNam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MailBox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MailBox :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sgs   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q o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POP3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ocked 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o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etUserMessages: POP3Types`UserName ==&gt;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q o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POP3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etUserMessages(user) =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GetUserMail(user).ms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UserKnown(use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POP3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FD96-A44D-478C-AF3F-417930D98D4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p:transition>
    <p:wipe dir="r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Eurostile ExtendedTwo"/>
              </a:rPr>
              <a:t>Booking of Flights: Invariant Preservation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46000" y="1263240"/>
            <a:ext cx="7850160" cy="52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Tr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000000"/>
                </a:solidFill>
                <a:latin typeface="Courier New"/>
              </a:rPr>
              <a:t>ty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Flight :: departure   : </a:t>
            </a:r>
            <a:r>
              <a:rPr b="1" lang="da-DK" sz="1600" spc="-1" strike="noStrike">
                <a:solidFill>
                  <a:srgbClr val="000000"/>
                </a:solidFill>
                <a:latin typeface="Courier New"/>
              </a:rPr>
              <a:t>seq of ch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destination : </a:t>
            </a:r>
            <a:r>
              <a:rPr b="1" lang="da-DK" sz="1600" spc="-1" strike="noStrike">
                <a:solidFill>
                  <a:srgbClr val="000000"/>
                </a:solidFill>
                <a:latin typeface="Courier New"/>
              </a:rPr>
              <a:t>seq of ch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000000"/>
                </a:solidFill>
                <a:latin typeface="Courier New"/>
              </a:rPr>
              <a:t>instance vari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journey: </a:t>
            </a:r>
            <a:r>
              <a:rPr b="1" lang="da-DK" sz="1600" spc="-1" strike="noStrike">
                <a:solidFill>
                  <a:srgbClr val="000000"/>
                </a:solidFill>
                <a:latin typeface="Courier New"/>
              </a:rPr>
              <a:t>seq of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Fligh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000000"/>
                </a:solidFill>
                <a:latin typeface="Courier New"/>
              </a:rPr>
              <a:t>inv forall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i </a:t>
            </a:r>
            <a:r>
              <a:rPr b="1" lang="da-DK" sz="1600" spc="-1" strike="noStrike">
                <a:solidFill>
                  <a:srgbClr val="000000"/>
                </a:solidFill>
                <a:latin typeface="Courier New"/>
              </a:rPr>
              <a:t>in set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{1,...,</a:t>
            </a:r>
            <a:r>
              <a:rPr b="1" lang="da-DK" sz="1600" spc="-1" strike="noStrike">
                <a:solidFill>
                  <a:srgbClr val="000000"/>
                </a:solidFill>
                <a:latin typeface="Courier New"/>
              </a:rPr>
              <a:t>len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journey -1} &amp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journey(i).destination = journey(i+1).depar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000000"/>
                </a:solidFill>
                <a:latin typeface="Courier New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AddFlight: Flight ==&gt; 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AddFlight(f) =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journey := journey ^ [f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000000"/>
                </a:solidFill>
                <a:latin typeface="Courier New"/>
              </a:rPr>
              <a:t>p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journey(</a:t>
            </a:r>
            <a:r>
              <a:rPr b="1" lang="da-DK" sz="1600" spc="-1" strike="noStrike">
                <a:solidFill>
                  <a:srgbClr val="000000"/>
                </a:solidFill>
                <a:latin typeface="Courier New"/>
              </a:rPr>
              <a:t>len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journey).destination = f.depar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Tr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35960" y="5369040"/>
            <a:ext cx="213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journey &lt;&gt; [] =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98DB-8641-466A-A969-774B0BCE00F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urostile ExtendedTwo"/>
              </a:rPr>
              <a:t>Robot Routes: Satisfiability 1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93720" y="1599840"/>
            <a:ext cx="819936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 Ro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00"/>
                </a:solidFill>
                <a:latin typeface="Courier New"/>
              </a:rPr>
              <a:t>instance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points: </a:t>
            </a:r>
            <a:r>
              <a:rPr b="1" lang="da-DK" sz="2000" spc="-1" strike="noStrike">
                <a:solidFill>
                  <a:srgbClr val="000000"/>
                </a:solidFill>
                <a:latin typeface="Courier New"/>
              </a:rPr>
              <a:t>set of</a:t>
            </a: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 Poin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00"/>
                </a:solidFill>
                <a:latin typeface="Courier New"/>
              </a:rPr>
              <a:t>inv forall</a:t>
            </a: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 p1, p2 </a:t>
            </a:r>
            <a:r>
              <a:rPr b="1" lang="da-DK" sz="2000" spc="-1" strike="noStrike">
                <a:solidFill>
                  <a:srgbClr val="000000"/>
                </a:solidFill>
                <a:latin typeface="Courier New"/>
              </a:rPr>
              <a:t>in set</a:t>
            </a: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 points &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p1.GetCoord() = p2.GetCoord() =&gt; p1 = p2 </a:t>
            </a:r>
            <a:r>
              <a:rPr b="1" lang="da-DK" sz="2000" spc="-1" strike="noStrike">
                <a:solidFill>
                  <a:srgbClr val="000000"/>
                </a:solidFill>
                <a:latin typeface="Courier New"/>
              </a:rPr>
              <a:t>and</a:t>
            </a: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a-DK" sz="2000" spc="-1" strike="noStrike">
                <a:solidFill>
                  <a:srgbClr val="000000"/>
                </a:solidFill>
                <a:latin typeface="Courier New"/>
              </a:rPr>
              <a:t>forall</a:t>
            </a: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 p </a:t>
            </a:r>
            <a:r>
              <a:rPr b="1" lang="da-DK" sz="2000" spc="-1" strike="noStrike">
                <a:solidFill>
                  <a:srgbClr val="000000"/>
                </a:solidFill>
                <a:latin typeface="Courier New"/>
              </a:rPr>
              <a:t>in set</a:t>
            </a: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 points &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p.GetIndex() &lt;&gt; </a:t>
            </a:r>
            <a:r>
              <a:rPr b="1" lang="da-DK" sz="2000" spc="-1" strike="noStrike">
                <a:solidFill>
                  <a:srgbClr val="000000"/>
                </a:solidFill>
                <a:latin typeface="Courier New"/>
              </a:rPr>
              <a:t>card</a:t>
            </a: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 points =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GetNext(p).GetCoord() </a:t>
            </a:r>
            <a:r>
              <a:rPr b="1" lang="da-DK" sz="2000" spc="-1" strike="noStrike">
                <a:solidFill>
                  <a:srgbClr val="000000"/>
                </a:solidFill>
                <a:latin typeface="Courier New"/>
              </a:rPr>
              <a:t>in set</a:t>
            </a: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{n.GetCoord() | n </a:t>
            </a:r>
            <a:r>
              <a:rPr b="1" lang="da-DK" sz="2000" spc="-1" strike="noStrike">
                <a:solidFill>
                  <a:srgbClr val="000000"/>
                </a:solidFill>
                <a:latin typeface="Courier New"/>
              </a:rPr>
              <a:t>in set</a:t>
            </a: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 p.Neighbour()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 Ro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7A5E-8AAC-45AD-BC44-E6E0984D191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urostile ExtendedTwo"/>
              </a:rPr>
              <a:t>Robot Routes: Satisfiability 2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58520" y="1355760"/>
            <a:ext cx="8134200" cy="50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o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voidanceRoutes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stacles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o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a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*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a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urrentPosition: Poin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extWaypoint: Point) routes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o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o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st foral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 se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outes &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.GetFirst().GetCoord()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urrentPosition.GetCoord(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.GetLast().GetCoord()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extWaypoint.GetCoord(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.GetCoords(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obstacles = {}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oute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D3DE-D800-4CCC-860C-22BE4C62088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urostile ExtendedTwo"/>
              </a:rPr>
              <a:t>Robot Routes: Satisfiability 3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74200" y="1355760"/>
            <a:ext cx="8318520" cy="50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implicit definitions there must exist at least one potential result for each input satisfying the pre-con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of Obligation (or integrity constrain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al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obstacles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o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a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*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a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urrentPosition: Poin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xtWaypoint: Point &amp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ist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routes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o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Route &amp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voidanceRoutes(obstances,currentPositio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xtWaypoint,rou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in principle be proved form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6659-1DF5-4568-B611-2094B7AD738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9T14:47:36Z</dcterms:created>
  <dc:creator>Peter Gorm Larsen</dc:creator>
  <dc:description/>
  <dc:language>en-US</dc:language>
  <cp:lastModifiedBy>Peter Gorm Larsen</cp:lastModifiedBy>
  <dcterms:modified xsi:type="dcterms:W3CDTF">2006-11-24T09:54:11Z</dcterms:modified>
  <cp:revision>38</cp:revision>
  <dc:subject/>
  <dc:title>Defining Data and Functionalit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