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061-EAD7-4FCE-AF46-151F2916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401472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764-239E-4AFC-B329-F90F066E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556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51B-AC29-4671-B7AF-8E74CCC1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720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5148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720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5148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925-4320-4CED-A73E-BEFE23B5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DB8-929A-487D-8D42-9A3F12AB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C34-DFBA-4D83-8350-C14952B6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91A-3FA6-4F8B-92BA-63F46C1E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A77-BCDB-4168-8E83-08611C6D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2064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812-2173-4554-AB86-10A498F6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9F8-DF59-4EB6-838B-781E4E7D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556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39E-4311-48BE-A7D4-822B64F3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56B-4A4A-4AB8-858C-E513923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2880" y="1239840"/>
            <a:ext cx="8601120" cy="5207040"/>
          </a:xfrm>
          <a:prstGeom prst="rect">
            <a:avLst/>
          </a:prstGeom>
          <a:solidFill>
            <a:srgbClr val="d5d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06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Eurostile ExtendedTwo"/>
              </a:rPr>
              <a:t>TIVD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06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Eurostile ExtendedTwo"/>
              </a:rPr>
              <a:t>Concurrency in VDM+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06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1735-AF1C-42CA-8A61-B36C8C27D01E}" type="slidenum">
              <a:rPr b="0" lang="da-DK" sz="1000" spc="-1" strike="noStrike">
                <a:solidFill>
                  <a:srgbClr val="000000"/>
                </a:solidFill>
                <a:latin typeface="Eurostile ExtendedTw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36000" y="231840"/>
            <a:ext cx="1742760" cy="92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Eurostile ExtendedTwo"/>
              </a:rPr>
              <a:t>Concurrency in VDM++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eter Gorm Lar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251-B4CC-4059-8F2E-F1008BD04C0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Permission Predicate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4280" y="134928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hat if the producer thread generates values faster than the consumer thread can consume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hared objects require </a:t>
            </a:r>
            <a:r>
              <a:rPr b="0" i="1" lang="da-DK" sz="2800" spc="-1" strike="noStrike">
                <a:solidFill>
                  <a:srgbClr val="000000"/>
                </a:solidFill>
                <a:latin typeface="Arial"/>
              </a:rPr>
              <a:t>synchro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ynchronization is achieved in VDM++ using </a:t>
            </a:r>
            <a:r>
              <a:rPr b="0" i="1" lang="da-DK" sz="2800" spc="-1" strike="noStrike">
                <a:solidFill>
                  <a:srgbClr val="000000"/>
                </a:solidFill>
                <a:latin typeface="Arial"/>
              </a:rPr>
              <a:t>permission predic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 permission predicate describes when an operation call may be exec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f a permission predicate is not satisfied, the operation call 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DB6-88D1-4D42-B696-89B902F934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Permission Predicate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ermission predicates are described in the sync section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000000"/>
                </a:solidFill>
                <a:latin typeface="Courier New"/>
              </a:rPr>
              <a:t>syn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000000"/>
                </a:solidFill>
                <a:latin typeface="Courier New"/>
              </a:rPr>
              <a:t>per</a:t>
            </a:r>
            <a:r>
              <a:rPr b="0" lang="da-DK" sz="2200" spc="-1" strike="noStrike">
                <a:solidFill>
                  <a:srgbClr val="000000"/>
                </a:solidFill>
                <a:latin typeface="Courier New"/>
              </a:rPr>
              <a:t> &lt;operation name&gt; =&gt;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he predicate may refer to the class’s instanc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he predicate may also refer to special variables known as </a:t>
            </a:r>
            <a:r>
              <a:rPr b="0" i="1" lang="da-DK" sz="2400" spc="-1" strike="noStrike">
                <a:solidFill>
                  <a:srgbClr val="000000"/>
                </a:solidFill>
                <a:latin typeface="Arial"/>
              </a:rPr>
              <a:t>history counters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033-7D70-433C-AB0D-D61C1977D6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History Counters and mutex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4327200"/>
            <a:ext cx="781524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Mutual excusion (</a:t>
            </a:r>
            <a:r>
              <a:rPr b="1" lang="da-DK" sz="22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Blocking Puts and Gets while execu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0" lang="da-DK" sz="2200" spc="-1" strike="noStrike">
                <a:solidFill>
                  <a:srgbClr val="000000"/>
                </a:solidFill>
                <a:latin typeface="Courier New"/>
              </a:rPr>
              <a:t>(Put,G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31760" y="1600200"/>
          <a:ext cx="7861320" cy="2351160"/>
        </p:xfrm>
        <a:graphic>
          <a:graphicData uri="http://schemas.openxmlformats.org/drawingml/2006/table">
            <a:tbl>
              <a:tblPr/>
              <a:tblGrid>
                <a:gridCol w="1844640"/>
                <a:gridCol w="60166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req</a:t>
                      </a: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mber of times that </a:t>
                      </a: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as been reques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act</a:t>
                      </a: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mber of times that </a:t>
                      </a: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as been activa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fin</a:t>
                      </a: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mber of times that </a:t>
                      </a: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as been comple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active</a:t>
                      </a: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mber of active executions of </a:t>
                      </a:r>
                      <a:r>
                        <a:rPr b="0" lang="da-DK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613-1E24-4BEF-B443-ACAE3D768D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The Buffer Synchronized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ssuming the buffer does not lose data, there are two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It should only be possible to </a:t>
            </a:r>
            <a:r>
              <a:rPr b="0" i="1" lang="da-DK" sz="22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 data, when the producer has placed data in the buff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It should only be possible to </a:t>
            </a:r>
            <a:r>
              <a:rPr b="0" i="1" lang="da-DK" sz="2200" spc="-1" strike="noStrike">
                <a:solidFill>
                  <a:srgbClr val="000000"/>
                </a:solidFill>
                <a:latin typeface="Arial"/>
              </a:rPr>
              <a:t>put</a:t>
            </a: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 data when the consumer has fetched data from the buff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he following permission predicates could model these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per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Put =&gt; data =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per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Get =&gt; data &lt;&gt;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780-4017-453F-9C08-70588A86D0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The Buffer Synchronized (2)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he previous predicates could also have been written using history coun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per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Get =&gt;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#fin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Put) -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#fin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Get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A47-557A-43D4-8F79-2BBEE3BAB8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Mutual Exclus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nother problem could arise with the buffer: what if the producer produces and the consumer consumes at the same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he result could be non-deterministic and/or counter-intu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VDM++ provides the keyword mu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Put, 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hortha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per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Put =&gt;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#activ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Get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per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Get =&gt;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#activ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Put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379-5AF1-473F-9E1A-81FF1EAF29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b2b2b2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b2b2b2"/>
                </a:solidFill>
                <a:latin typeface="Arial"/>
              </a:rPr>
              <a:t>Concurrency primitives in VDM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u="sng">
                <a:solidFill>
                  <a:srgbClr val="0000ff"/>
                </a:solidFill>
                <a:uFillTx/>
                <a:latin typeface="Arial"/>
              </a:rPr>
              <a:t>Example: POP3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Concurrency and VDMTools</a:t>
            </a:r>
            <a:r>
              <a:rPr b="0" lang="da-DK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6C08-ED9B-494D-9035-D74CB5429C7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Example: POP3 Server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rotocol which allows email clients to fetch messages from a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erver contains a collection of messages for a number of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erver is typically capable of communicating with multiple clients concurr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F9B-B090-4210-AE28-328DDAA526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Overall Class Structure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27120" y="1436760"/>
            <a:ext cx="8199360" cy="42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C74-9164-482C-9E53-357847D1210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Behaviour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he server listens constantly for cl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When a client initiates contact, a client handler is spaw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he client handler then responds to commands from the client, until the client terminates the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1A7-6C2A-4FFB-981D-16408636E5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6120" y="15872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currency primitives in VDM+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Example: POP3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Concurrency and VDMTools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04D-B505-4A33-886E-591179BCE7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The POP3Server 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03160" y="1414080"/>
            <a:ext cx="80899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maildrop      : MailDr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passwords     :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Types`UserName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Types`Passwor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locks         :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ClientHandlerId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Types`User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serverStarted :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MailDrop =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Types`UserName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MailBo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MailBox :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msgs   :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locked :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ClientHandlerId =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6DB-5AC1-4966-B7C3-1E779228B9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The POP3Ser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Basic Synchroniz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880" y="1350720"/>
            <a:ext cx="854712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SetUserMessages: POP3Types`UserName *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Message ==&gt;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SetUserMessages(user, newMsgs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maildrop(user) :=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mu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(maildrop(user), msgs |-&gt; newMsg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GetUserMail: POP3Types`UserName ==&gt; Mail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GetUserMail(user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maildrop(us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sy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(SetUserMessage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(SetUserMessages, GetUserM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15B-7A66-4126-8D19-77530CEFAE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ynchronization of Locking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261800"/>
            <a:ext cx="82310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AcquireLock: ClientHandlerId * POP3Types`UserName ==&gt;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AcquireLock (clId, user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locks := locks ++ { clId |-&gt; user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clId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not in set dom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lock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ReleaseLock: ClientHandlerId ==&gt;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ReleaseLock(clId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locks := {clId} &lt;-: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clId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in set dom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lock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sLocked: POP3Types`UserName ==&gt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Locked(user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us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set r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lock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sy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cquireLoc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eleaseLoc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cquireLock, ReleaseLock, IsLock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136-B255-4D73-B13A-46A1E17DBC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Client Handler State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7400" y="1382400"/>
            <a:ext cx="82756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Three st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Arial"/>
              </a:rPr>
              <a:t>Authorisation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ient has not yet been authorised by the client hand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ient is able to interrogate the client  handler about the contents of the mail box for the client's us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Arial"/>
              </a:rPr>
              <a:t>Upda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ient has ended the session; messages marked for deletion are actually deleted from the server, then the thread 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POP3Client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ServerState = &lt;Authorization&gt; | &lt;Transaction&gt; | &lt;Update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POP3Client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505-91C1-4E7F-B984-891318244FD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tarting a Client Sess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4520" y="1316160"/>
            <a:ext cx="8188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true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sgChannel = connChannel.Get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eateClientHandler(msgChanne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rverStarted :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connChannel: MessageChannelBuff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eateClientHandler: MessageChannel ==&gt;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eateClientHandler(mc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OP3ClientHandler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mc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POP3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B80-F9DC-4724-BE70-C9D7F35D89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Interacting with the Client 1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200" y="1360440"/>
            <a:ext cx="8264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POP3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ClientCommand = StandardClientCommand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OptionalClientComma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StandardClientCommand = QUIT | STAT | LIST | RETR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DELE | NOOP | RS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OptionalClientCommand = TOP | UIDL | USER | PASS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AP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RETR :: messageNumber :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ServerResponse = OkResponse | ErrRespon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OkResponse ::  data :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seq of char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ErrResponse :: data :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seq of char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POP3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193-3A04-40C6-86BA-0EFAF99C82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Interacting with the Client 2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200" y="1284120"/>
            <a:ext cx="826452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POP3Client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dcl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cmd: POP3Types`ClientComma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id :=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threadid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cmd := msgChannel.ServerList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(cmd &lt;&gt; mk_POP3Types`QUIT())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( msgChannel.ServerSend(ReceiveCommand(cmd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cmd := msgChannel.ServerListe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msgChannel.ServerSend(ReceiveCommand(cmd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ReceiveCommand: POP3Types`ClientCommand ==&gt; POP3Types`Server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ReceiveCommand(c) 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cases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_POP3Types`QUIT()    -&gt; ReceiveQUIT(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_POP3Types`STAT()    -&gt; ReceiveSTAT(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_POP3Types`LIST(-)   -&gt; ReceiveLIST(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_POP3Types`RETR(-)   -&gt; ReceiveRETR(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_POP3Types`DELE(-)   -&gt; ReceiveDELE(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_POP3Types`NOOP()    -&gt; ReceiveNOOP(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_POP3Types`RSET()    -&gt; ReceiveRSET(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_POP3Types`TOP(-,-)  -&gt; ReceiveTOP(c)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_POP3Types`UIDL(-)   -&gt; ReceiveUIDL(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_POP3Types`USER(-)   -&gt; ReceiveUSER(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_POP3Types`PASS(-)   -&gt; ReceivePASS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200" spc="-1" strike="noStrike">
                <a:solidFill>
                  <a:srgbClr val="000000"/>
                </a:solidFill>
                <a:latin typeface="Courier New"/>
              </a:rPr>
              <a:t> POP3Client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9C0-B2FA-4005-B3A9-146E623EC7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Interacting with the Client 3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1326960"/>
            <a:ext cx="871056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POP3ClientHa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ss    : ServerSt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parent: POP3Serv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user  : POP3Types`User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id    : POP3Server`ClientHandler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ReceiveRETR: POP3Types`RETR ==&gt; POP3Types`Server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ReceiveRETR(retr) 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ss = &lt;Transac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then if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parent.IsValidMessageNumber(user, retr.messageNum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then let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msgText  = parent.GetMessageText(user, retr.messageNumb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sizeText = int2string(parent.GetMessageSize(us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retr.messageNumbe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_POP3Types`OkResponse(sizeText ^ "\n" ^ msgTex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else return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_POP3Types`ErrResponse(unknownMessageMs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else return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_POP3Types`ErrResponse(negativeStatusMs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POP3ClientHa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D17-92EE-42DA-8566-7495ED55D2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ynchronized Communication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in the POP3 Server 1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Message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data : [POP3Types`ClientCommand | POP3Types`ServerResponse]  :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nil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nd: POP3Types`ClientCommand | POP3Types`ServerResponse ==&gt;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nd(msg) 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ta := ms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sten: () ==&gt; POP3Types`ClientCommand | POP3Types`Server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sten() 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 = data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 data :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i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Message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3A0-63FA-476C-9A61-92C4144CE3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ynchronized Communication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in the POP3 Server 2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7680" y="1317240"/>
            <a:ext cx="85359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essage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rverSend: POP3Types`ServerResponse ==&gt;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rverSend(p) =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nd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rverListen: () ==&gt; POP3Types`Client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rverListen() =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e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sy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per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ClientSend =&gt;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#fi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(ServerSend) =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#fi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(ClientListen)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#fi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(ClientSend) =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#fi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(ServerListen)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#fi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(ServerSend) =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#fi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(ClientSen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per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ServerListen =&gt;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#fi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(ClientSend) - 1 =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#fi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(ServerListe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Message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AE1-19C1-4358-B1DB-91F4F69788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Concurrency Primitives in VDM++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Concurrency in VDM++ is based on </a:t>
            </a:r>
            <a:r>
              <a:rPr b="0" i="1" lang="da-DK" sz="24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hreads communicate using shar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ynchronization on shared objects is specified using </a:t>
            </a:r>
            <a:r>
              <a:rPr b="0" i="1" lang="da-DK" sz="2400" spc="-1" strike="noStrike">
                <a:solidFill>
                  <a:srgbClr val="000000"/>
                </a:solidFill>
                <a:latin typeface="Arial"/>
              </a:rPr>
              <a:t>permission pre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C84-42CB-4A64-9763-EAC58495DA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equence Diagram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1360" y="1352520"/>
            <a:ext cx="5826240" cy="54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91B-894C-4FD5-A860-1399737EAA8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b2b2b2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b2b2b2"/>
                </a:solidFill>
                <a:latin typeface="Arial"/>
              </a:rPr>
              <a:t>Concurrency primitives in VDM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b2b2b2"/>
                </a:solidFill>
                <a:latin typeface="Arial"/>
              </a:rPr>
              <a:t>Example: POP3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u="sng">
                <a:solidFill>
                  <a:srgbClr val="0000ff"/>
                </a:solidFill>
                <a:uFillTx/>
                <a:latin typeface="Arial"/>
              </a:rPr>
              <a:t>Concurrency and VDMTools</a:t>
            </a:r>
            <a:r>
              <a:rPr b="0" lang="da-DK" sz="2400" spc="-1" strike="noStrike" u="sng" baseline="30000">
                <a:solidFill>
                  <a:srgbClr val="0000ff"/>
                </a:solidFill>
                <a:uFillTx/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5F0-31D1-4AF8-AFBB-E806FFA48C6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Concurrency and VDMTools</a:t>
            </a:r>
            <a:r>
              <a:rPr b="0" lang="da-DK" sz="2400" spc="-1" strike="noStrike" baseline="30000">
                <a:solidFill>
                  <a:srgbClr val="000000"/>
                </a:solidFill>
                <a:latin typeface="Eurostile ExtendedTwo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VDMTools</a:t>
            </a:r>
            <a:r>
              <a:rPr b="0" lang="da-DK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pro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Type checking of thread and sync sections of a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Execution of threads, using a variety of scheduling algorithms, which the user can sel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Code generation of thread and sync sections of a class (Java onl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380-FF39-4E03-84C3-E6ECE623E7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pecial Interpreter Command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rth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yield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urrent thread (during an execu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yields a list of all the threads currently executing including their 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ock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he thread is waiting for a permission predicate to become tru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opp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he thread has stopped at a breakpoi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n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the thread is currently being executed by the interpre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xReach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he maximum number of instructions per time slice has been reached by this threa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threa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elects a different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78B-2166-4E3F-986D-83EF2C7227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I presented tod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urrency primitives in VDM+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P3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urrency support in VDMToo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eed to do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pect the electronic copy of the POP3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e with your project adding concurr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ate the new project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 your status to all of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ECD-54E2-4288-9665-5D6FB85956D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Quote of the da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14" name=""/>
          <p:cNvSpPr/>
          <p:nvPr/>
        </p:nvSpPr>
        <p:spPr>
          <a:xfrm>
            <a:off x="4410000" y="3720960"/>
            <a:ext cx="59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ill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4800" y="158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320" y="1395360"/>
            <a:ext cx="826956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different, in that we take on novel tasks every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times civil engineers make mistakes is 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. And at first you think, what’s wrong with us? I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t’s like we’re building the first skyscraper e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4A6-C771-4977-B3AE-427A623E94E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odelled by a class with a thread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Simple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- =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IO().echo(”Hello World!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Simple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read execution begins using start statement with an instance of a class with a thread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Simple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E11-AF6A-43ED-A37C-38AB42EB69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Thread Communic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hreads operating in isolation have limited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n VDM++ threads communicate using shar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09D-B3C2-4A00-B925-14BE1BC9D1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24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A Producer-Consumer Example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threads must be 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with a producer-consume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before consumpti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 single producer and a single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roducer has a thread which repeatedly places data in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Consumer has a thread which repeatedly fetches data from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5200" y="4927680"/>
            <a:ext cx="8961480" cy="139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80C-CD35-4606-8038-BA6DDB0EA9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The Producer Clas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8520" y="1355760"/>
            <a:ext cx="813420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: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duce: () ==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 of 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duce() =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Put(Produc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00F-04F4-47F4-B86A-E7A0F4FDAD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The Consumer Clas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8520" y="1355760"/>
            <a:ext cx="813420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: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um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 of 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=&gt;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ume(d) =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ume(b.Get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3FD-040B-482D-914D-48040A0A55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The Buffer Clas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8520" y="1266480"/>
            <a:ext cx="81342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: 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 of ch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 :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u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 of ch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=&gt;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(newData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:= new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Get: () ==&gt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 of ch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(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ldData =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data :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ld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427-0EEA-4915-A0E7-7824064D23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4:47:36Z</dcterms:created>
  <dc:creator>Peter Gorm Larsen</dc:creator>
  <dc:description/>
  <dc:language>en-US</dc:language>
  <cp:lastModifiedBy>pglhome</cp:lastModifiedBy>
  <dcterms:modified xsi:type="dcterms:W3CDTF">2006-10-06T13:07:47Z</dcterms:modified>
  <cp:revision>32</cp:revision>
  <dc:subject/>
  <dc:title>Defining Data and Functiona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